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680" y="4680"/>
            <a:ext cx="180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4ED7-5AA0-4221-BC58-A104A588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8239-1C27-4181-A583-17064D38B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BD84-7D3D-4000-A3D3-D00183E21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8C0B-41C5-4C01-B1AF-5B226C87B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0124-09D6-4453-AA08-D132BE275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2007-7D44-4C02-AC7B-AD69C88D3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A1BF-B829-4BEE-A017-2DB810A3E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864F-741D-45A0-838F-D95F67C2F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C12B-48B6-4B0D-90CE-A9E1EECBF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638B-84E6-4BB7-8E1D-E1F313D96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B949-DA9A-4F07-80F1-E0629CD7D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FC62-941F-4CFF-B65C-E6F3D14E6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7612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7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F2E696-0797-426A-A175-29923B3AEF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s.uci.edu/~fielding/pubs/dissertation/references.htm#ref_3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571680"/>
            <a:ext cx="77724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EST Architectural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bert Wilson,   March 200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lsonrm@computer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54160"/>
            <a:ext cx="82249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uniform interface seman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492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FC2616 specifies HTTP intended method behaviour and semantics for common HTTP meth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fe: no side-effects, e.g. does not change resou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mpotent: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“the side-effects of N &gt; 0 identical requests is the same as for a single reques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4240" y="2357280"/>
          <a:ext cx="7715520" cy="2330640"/>
        </p:xfrm>
        <a:graphic>
          <a:graphicData uri="http://schemas.openxmlformats.org/drawingml/2006/table">
            <a:tbl>
              <a:tblPr/>
              <a:tblGrid>
                <a:gridCol w="1214640"/>
                <a:gridCol w="4357800"/>
                <a:gridCol w="785520"/>
                <a:gridCol w="135756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ration on the re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dempo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 new resource as subordinate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ieve a resource re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y (update) a resource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 resource at the i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te a re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543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API using REST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49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the resource representa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 Protocol consid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status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strate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alk through beginnings of SOF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FT – Simple Online Family Tr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ctitious new web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alk through part of the design of the Web AP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543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API using REST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49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fine the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the resource representa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 Protocol consid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status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strate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didate resources ar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0" y="2500200"/>
          <a:ext cx="4143240" cy="2967120"/>
        </p:xfrm>
        <a:graphic>
          <a:graphicData uri="http://schemas.openxmlformats.org/drawingml/2006/table">
            <a:tbl>
              <a:tblPr/>
              <a:tblGrid>
                <a:gridCol w="2000160"/>
                <a:gridCol w="2143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y-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y-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l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543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API using REST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57200" y="1600200"/>
            <a:ext cx="82249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sign the resource representati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 Protocol consid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status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strate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Resource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s elicit some of them by working through example scenarios of request response messages across the uniform interf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ur initial URL will b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soft.example.org/family-tr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erver will create the hierarchy underneath this URL so client does not need to know the structure as it will be given it by the server in the representations – this avoids coupling between client &amp; server over the hierarchy struc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Resource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28760" y="1214280"/>
            <a:ext cx="82245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rst off create a family-tree with the reques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ST /family-trees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amilyTree xmlns="http://soft.example.org/family-trees" 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ame&gt;The Addams Family Tree&lt;/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createdBy&gt;Gomez Addams&lt;/createdBy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familyTre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1 Created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amilyTree xmlns="http://soft.example.org/family-trees" xml:base="http://soft.example.org/family-trees/0008/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ame&gt;The Addams Family Tree&lt;/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createdBy&gt;Gomez Addams&lt;/createdBy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" title="FamilyTree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related" type="application/xml" href="people" title="People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familyTree&gt;</a:t>
            </a:r>
            <a:br>
              <a:rPr sz="1000"/>
            </a:b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 the previous response the link element with the edit attribute is for editing, the href is relative to xml:base (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he link element is borrowed from the atom:link elemen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previous response using the link element with the title attribute “People”, its relative href &amp; the xml:base attribute we can now create an initial person with the reques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ST /family-trees/0008/people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person xmlns="http://soft.example.org/family-trees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irstName&gt;Morticia&lt;/first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astName&gt;Addams&lt;/last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birth&gt;19800101&lt;/birth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sex&gt;F&lt;/sex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person&gt;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492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1 Created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/people/123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person xmlns="http://soft.example.org/family-trees"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xml:base "http://soft.example.org/family-trees/0008/people/1234/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irstName&gt;Morticia&lt;/first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astName&gt;Addams&lt;/lastNa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birth&gt;19800101&lt;/birth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sex&gt;F&lt;/sex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" title="Person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related" type="application/xml" href="relations" title="Relations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person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with link elements for editing Morticia and Morticia’s re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2860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Who has heard of REST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428840"/>
            <a:ext cx="82249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fter creating two extra people who are Morticia’s mother and brother, add them as relations of Moritica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ST  /family-trees/0008/people/1234/relations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-www-form-urlencoded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le=mother&amp;person=http://soft.example.org/family-trees/0008/people/234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1 Created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/people/1234/relations/moth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ST  /family-trees/0008/people/1234/relations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-www-form-urlencoded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le=brother&amp;person=http://soft.example.org/family-trees/0008/people/558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1 Created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/people/1234/relations/brothers/558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357200"/>
            <a:ext cx="82249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we GET Morticia’s relations using the edit link from the initial Post response us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T  /family-trees/0008/people/1234/relations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/people/1234/relation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relations xmlns="http://soft.example.org/family-trees"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xml:base "http://soft.example.org/family-trees/0008/people/1234/relations/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" title="Relations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relation role="mother" person="http://soft.example.org/family-trees/0008/people/2234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mother" title="Mother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relation role="brother" person="http://soft.example.org/family-trees/0008/people/5588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brothers/5588" title="Brother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relations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428840"/>
            <a:ext cx="82249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s modify Morticia’s mother with a PUT request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UT  /family-trees/0008/people/1234/relations/mother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-www-form-urlencoded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le=mother&amp;person=http://soft.example.org/family-trees/0008/people/5556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 http://soft.example.org/family-trees/0008/people/1234/relations/moth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Type: application/x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t-Length: 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relation  xmlns="http://soft.example.org/family-trees"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xml:base "http://soft.example.org/family-trees/0008/people/1234/relations/mother"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le="mother" person="http://soft.example.org/family-trees/0008/people/5556"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link rel="edit" type="application/xml" href="" title="Mother"/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/relation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ource Representation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428840"/>
            <a:ext cx="82249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s delete Morticia’s brother with a DELETE request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LETE  /family-trees/0008/people/1234/relations/brothers/5588  HTTP 1.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st: soft.example.or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spons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543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API using REST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49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the resource representa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TTP Protocol consider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status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strate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42920" y="274680"/>
            <a:ext cx="8539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response status cod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y the  HTTP method response codes from SOF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n success will retur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1 Create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d th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tion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header will have the URI of the new resourc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ailure code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0 Bad Requ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n success will retur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ailure code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0 Bad Request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4 Not Fou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42920" y="274680"/>
            <a:ext cx="85010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response status code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U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n success will retur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ailure code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0 Bad Request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4 Not Found, 409 Confli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n success will retur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00 O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ailure code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0 Bad Request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04 Not Found, 410 G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security is applied and the user is not authenticated then the response i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401 Unauthori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 Reference for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RFC2616,  Ch 10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Status Code Defin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ider SOFT’s Caching Strate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600200"/>
            <a:ext cx="82249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che Top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ivate Caches – in the Web brows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xy Caches – proxy server for scal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che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rver specifies expiration time using Cache-Control (HTTP/1.1) or Expires (HTTP/1.0) head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validation using  a “conditional GET”, only gets a new copy of the document if it has changed , client can send either  heade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f-Modified-Since,  send date that client has as Last-Modified date, only resolution to the seco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f-None-Match, send the ETag value that was sent from the server back to the server to see if  the cache st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sider HTTP Encodings for SOF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457200" y="1600200"/>
            <a:ext cx="82249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ent-Encoding, encoding of the data  b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mpression (gzip ...) , encryption (PGP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fer-Encoding,  encoding to change the way the data is transferr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hunked, send the data in chunks , don’t specify a content leng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74680"/>
            <a:ext cx="8543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b API using REST princ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1600200"/>
            <a:ext cx="82249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 the resource representa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 Protocol consid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status c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strate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co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2860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T 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1600200"/>
            <a:ext cx="822960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acronym from:  Representational State Transf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architectural style that is derived by applying a set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o the elements of a system so the system exhibits certain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properti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uch as loose coupling and scalabi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d by Roy T. Fielding, PhD in hi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hD dissertation, Chapter 5 Representational State Transfer (REST)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ta-orientated,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Unlike the distributed object style [</a:t>
            </a:r>
            <a:r>
              <a:rPr b="0" lang="en-AU" sz="20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31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</a:rPr>
              <a:t>], where all data is encapsulated within and hidden by the processing components, the nature and state of an architecture's data elements is a key aspect of REST”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rchitectural Styles and the Design of Network-based Software Architectures Roy Thomas Fielding, 2000: PhD dissertation, Chapter 5 Representational State Transfer (REST)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FT Secur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57200" y="1600200"/>
            <a:ext cx="82249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uld u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asic authentication,  need to use HTTPS to encrypt the username password information in the he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gest authentication, MD5 checksum of the username, password so these are not sent in clear t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MAC: Keyed-Hashing for Message Authentic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a hash of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lected elements from the reque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with a secret key, used by Amaz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docs.amazonwebservices.com/AmazonS3/2006-03-01/index.html?RESTAuthentication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information that needs to be secure use HTTPS to encrypt the message which ever method above is used. Note: As  HTTPS encrypts the message an intermediary will not know to cache the message, i.e. no caching by intermediaries when using HTT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orked 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600200"/>
            <a:ext cx="82249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other examples see the 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w to GET a Cup of Coffee by Jim Webber, Savas Parastatidis &amp; Ian Robinson Oct 02, 200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articles/webber-rest-workflow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sdn, A Guide to Designing and Building RESTful Web Services with WCF 3.5, Aaron Skonnard, Oct 200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msdn.microsoft.com/en-us/library/dd203052.asp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—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—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sing REST to aid WS-* - building a RESTful SOA Regis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presentations/rest-soa-regist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ava Toolkits/Frame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400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ava Community Process -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JSR 311: JAX-RS: The Java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Calibri"/>
              </a:rPr>
              <a:t>TM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API for RESTful Web Servic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server side specification, annotation ba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ersey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un production ready reference implementation of JSR31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Tl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arly REST framework, implements JSR311 and has its own class based hierarch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TEasy from Jbo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mplements JSR311, also includes a client framewor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ache CXF 2.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ava Toolkits/Framework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57280"/>
            <a:ext cx="8400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ring MVC 3.0.0M1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0.0 is a milestone release, GA in Q2 200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T was highly requested as a feature to be included in 3.0 by the Spring user commun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0.0 has better support for REST than the current ver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n integrate Jersey, RESTEasy, CXF, RESTlet with the current version of Sp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kits/Frame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crosoft Windows Communication Framework 3.5 (WCF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BM WebSphere sMas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viously know as Project Z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uby on Rai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ding R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357200"/>
            <a:ext cx="8400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k of the resource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y information can be a resour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heir data format (representations with URIs) 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nipulation through a uniform interf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REST constraints aren’t needed then don’t worry about them. An API that has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e REST constraints is a RESTful AP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621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357200"/>
            <a:ext cx="8400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621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4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214280"/>
            <a:ext cx="8224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chitectural Styles and the Design of Network-based Software Architectures Roy Thomas Fielding, 2000: PhD dissertation, Chapter 5 Representational State Transfer (REST) ,  http://www.ics.uci.edu/~fielding/pubs/dissertation/rest_arch_style.htm     Chapter 6 Experience and Evaluation,  http://www.ics.uci.edu/~fielding/pubs/dissertation/evaluation.ht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FC 2616 Hypertext Transfer Protocol -- HTTP/1.1 June 1999,  R .Fielding et al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rfc-editor.org/rfc/rfc2616.tx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little REST and Relaxation,  Roy T. Fielding, Ph.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slideshare.net/royfielding/a-little-rest-and-relax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BM, RESTful Web services: The basics by Alex Rodriguez, 06 Nov 200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bm.com/developerworks/webservices/library/ws-restful/index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to GET a Cup of Coffee by Jim Webber, Savas Parastatidis &amp; Ian Robinson Oct 02, 2008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articles/webber-rest-workfl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T Anti-Patterns by Stefan Tilkov, http://www.infoq.com/articles/rest-anti-pattern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ST: A Pragmatic Introduction to the Web's Architecture by Stefan Tilkov Jan 29 200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presentations/qcon-tilkov-rest-intr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slideshare.net/deimos/stefan-tilkov-pragmatic-intro-to-res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sdn, A Guide to Designing and Building RESTful Web Services with WCF 3.5, Aaron Skonnard, Oct 2008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msdn.microsoft.com/en-us/library/dd203052.asp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an Robinson discusses REST, WS-* and Implementing an SOA Jan 26, 200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interviews/robinson-rest-ws-soa-implement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roy.gbiv.com/untangled/2008/rest-apis-must-be-hypertext-drive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xfront.com/REST.pp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274680"/>
            <a:ext cx="8224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erence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7200" y="857160"/>
            <a:ext cx="8224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ozten/rest-vs-soap-yaw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stevenn/devoxx-2008-rest-in-peace-presentation-83156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sallamar/pragmatic-rest-present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guestb2ed5f/scalable-reliable-secure-res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swamy_g/rest-overvie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slideshare.net/deimos/steve-vinoski-rest-and-reuse-and-serendip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slideshare.net/calamitas/restful-best-practic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de Talks: Demonstrating the "ilities" of RES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anderingbarque.com/presentations/qcon2007.pp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bitworking.org/news/125/REST-and-W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azon S3, http://docs.amazonwebservices.com/AmazonS3/latest/RESTAPI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gle Data API, http://code.google.com/apis/gdata/docs/2.0/basics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ahoo Groups:  rest-discuss, http://tech.groups.yahoo.com/group/rest-discus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infoq.com/res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 :The Definitive Guide by David Gourley, Brian Tott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RI Templat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bitworking.org/projects/URI-Templates/spec/draft-gregorio-uritemplate-03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bm.com/developerworks/web/library/wa-ur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etf.org/rfc/rfc3986.tx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infoq.com/presentations/Open-API-John-Muss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infoq.com/presentations/rest-soa-registr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4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erence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857160"/>
            <a:ext cx="8224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just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rsey related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 algn="just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s://jersey.dev.java.net/ http://weblogs.java.net/blog/caroljmcdonald/ http://blogs.sun.com/theaquarium/tags/Jerse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 algn="just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iki.glassfish.java.net/attach/RESTfulWebServicesDevelopersGuide/p6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T presentation from the Developing Rich Internet Applications with Spring course by SpringSourc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jroller.com/Solomon/entry/jax_rs_spring_integration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codemonkeyism.com/wp-content/uploads/2008/10/web-entwicklung-2008_english.pd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ibm.com/developerworks/library/i-zero1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hinchcliffe.org/archive/2006/09/10/9275.asp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infoq.com/interviews/Spring-3.0-Rod-Johns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Ruby on Rails and REST go together By Rich Seeley, News Writer 21 May 2008 | SearchSOA.com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searchsoa.techtarget.com/news/article/0,289142,sid26_gci1314640,00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 Authentication: Basic and Digest Access Authentication, J .Fransks et al.  June 1999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etf.org/rfc/rfc2617.tx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kswenson.wordpress.com/2008/12/11/rest-assured-oauth-security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msdn.microsoft.com/en-us/library/dd203052.asp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7905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t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he Atom Syndication Forma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 http://www.ietf.org/rfc/rfc4287.tx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he Atom Publishing Protoco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,  http://www.ietf.org/rfc/rfc5023.tx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2" marL="12477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bm.com/developerworks/xml/library/x-atom10.htm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cestry.com.au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E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22120"/>
            <a:ext cx="82281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n can I use REST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816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Web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uild your web service using the REST sty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lternative  to some of WS-*,  not a replacement for WS-*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ients interfacing to public REST AP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.g. Amazon S3 REST API, Google Data AP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63 percent public APIs have a REST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ik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interfac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infoq.com/presentations/Open-API-John-Muss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Rich Internet Applications (RIA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lient sends AJAX requests to a REST interface using a JavaScript library e.g. jQuery, Dojo (JsonRestStore) or a framework like JavaFX or Silverl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e (JSON, XML etc) is displayed on the cl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 &amp; 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39640" y="1600200"/>
            <a:ext cx="822816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s 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of information: a thing, an entity, an event or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“any information that can be named”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ed by URIs, URIs should contain nouns, not verb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resentations 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formation retrieved from a resou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ource data plus meta-data with control data (in HTTP this is the message content and headers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ssible in more than one media type, i.e. a resource could be represented in HTML, XML, JSON, Atom, XHTML or RD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he current resource state containing data and possibly URIs (links). The URIs are the relationships and application state transitions available from the current re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EST Constrai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49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ient-Server architectural sty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teless Ser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ssion state is kept on the cl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che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ta is labelled as cacheable or non-cache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EST Constraint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357200"/>
            <a:ext cx="8224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Uniform interface 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The central feature that distinguishes the REST architectural style from other network-based styles is its emphasis on a uniform interface between components”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rchitectural Styles and the Design of Network-based Software Architectures Roy Thomas Fielding, 2000: PhD dissertation, Chapter 5 Representational State Transfer (REST)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 manipulating resources via URIs through a generic set of methods. A uniform interface reduces coupling compared to a services specific interface spec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EST Constraint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357200"/>
            <a:ext cx="8224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Uniform interface 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mposed of four constraint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905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cation of re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905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nipulation of resources through represent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905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lf-descriptive messages – meta data &amp; control d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905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ypermedia as the engine of application state - </a:t>
            </a:r>
            <a:r>
              <a:rPr b="0" lang="en-AU" sz="2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“the hypertext constraint”</a:t>
            </a:r>
            <a:r>
              <a:rPr b="0" lang="en-A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.e. links in the data for navigation through the application. This is one of the most important constrai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4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EST Constraints co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600200"/>
            <a:ext cx="82249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61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yered syst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61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61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de-On-Demand –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“optional constrain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lient functionality extended through download of code or scrip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61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straints will likely have design trade-offs, for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ching may improve performance but decrease reliability if stale data is ser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 stateless server can increase information in each message &amp; you now need to rely on the client to maintain 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6120" indent="-27612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6120" indent="-27612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</cp:lastModifiedBy>
  <dcterms:modified xsi:type="dcterms:W3CDTF">2009-03-14T03:31:05Z</dcterms:modified>
  <cp:revision>489</cp:revision>
  <dc:subject/>
  <dc:title>The REST Architecture</dc:title>
</cp:coreProperties>
</file>