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7153-E214-4E12-80CA-A2EF11F2A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784C-D4B7-4361-8253-A2BF3ACDF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D75F-0B79-4CFF-B1DB-5BBCBD9A6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15BF-EA04-4A7A-821B-F39E354A5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284D-A246-440D-98FB-993C5C45E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910A-168C-465D-9BF3-8A5B48A7D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3697-2AE5-4CEA-9411-9DACBEB7F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2F4C-5DD8-4698-B223-6971DEF61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1096-6579-4F57-9674-B5742862A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5B80-F953-44EE-84AB-924A5844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DAC3-B111-4928-9547-4E919031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F71E-0039-4366-80EA-FA998FA0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230CC-37B5-4690-812A-98EAC3F56848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C98C0-167A-45CF-AA50-3BA548D7FF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localhost/Shs1Clie.php" TargetMode="External"/><Relationship Id="rId2" Type="http://schemas.openxmlformats.org/officeDocument/2006/relationships/hyperlink" Target="http://localhost/Shy1Clie.php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4A9AB-6E2A-4792-B799-75EBFCE1DB80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Slide Number Placeholder 4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Fl_Macs_2010__</a:t>
            </a:r>
            <a:fld id="{696195DE-E6E4-4696-B68D-671BCC91E9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-XX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3. WS protocol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" descr=""/>
          <p:cNvPicPr/>
          <p:nvPr/>
        </p:nvPicPr>
        <p:blipFill>
          <a:blip r:embed="rId1"/>
          <a:stretch/>
        </p:blipFill>
        <p:spPr>
          <a:xfrm>
            <a:off x="76320" y="457200"/>
            <a:ext cx="6248160" cy="3649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http://upload.wikimedia.org/wikipedia/commons/4/4a/Webservices.png"/>
          <p:cNvPicPr/>
          <p:nvPr/>
        </p:nvPicPr>
        <p:blipFill>
          <a:blip r:embed="rId2"/>
          <a:stretch/>
        </p:blipFill>
        <p:spPr>
          <a:xfrm>
            <a:off x="5334120" y="2979720"/>
            <a:ext cx="3809880" cy="3460680"/>
          </a:xfrm>
          <a:prstGeom prst="rect">
            <a:avLst/>
          </a:prstGeom>
          <a:ln w="0">
            <a:noFill/>
          </a:ln>
        </p:spPr>
      </p:pic>
      <p:sp>
        <p:nvSpPr>
          <p:cNvPr id="48" name="TextBox 8"/>
          <p:cNvSpPr/>
          <p:nvPr/>
        </p:nvSpPr>
        <p:spPr>
          <a:xfrm>
            <a:off x="990720" y="4648320"/>
            <a:ext cx="2361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S predecesso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R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E3972-FD66-43BF-BFBD-043898E832EB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Fl_Macs_2010__</a:t>
            </a:r>
            <a:fld id="{CF995265-BAF7-441E-BF89-BC2EF831FB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-XX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5. SOAP Java (JAX-WS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152280" y="685800"/>
            <a:ext cx="883944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@Web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public class Sj1Serv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@WebMeth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public String ping() {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    return j1Bib.ping();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@WebMeth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public String upcase(String s) {    return j1Bib.upcase(s);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@WebMeth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public int add(int a, int b) {    return j1Bib.add(a, b);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public Sj1Serv() {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public Sj1Serv(String urlHostPort, String pathServ) throws Exceptio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int dp = urlHostPort.lastIndexOf(":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int port = Integer.parseInt(urlHostPort.substring(dp + 1, urlHostPort.lastIndexOf("/")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j1Bib.init("Soap", pathServ, port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Endpoint endpoint = Endpoint.publish(urlHostPort + pathServ, new Sj1Serv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System.out.println("Java Soap " + pathServ + " waiting at: " + urlHostPort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public static void main(String [] args) throws Exceptio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if (args.length &gt; 1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new Sj1Serv(args[0], args[1]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el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new Sj1Serv("http://localhost:2002/", "Sj1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5E6E8-E98C-40D9-871A-3E039E7A4183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6934320" y="6492960"/>
            <a:ext cx="2209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Fl_Macs_2010__</a:t>
            </a:r>
            <a:fld id="{CDE1DBEB-CCC6-431F-8576-4A1F5F7BDA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-XX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5. SOAP PHP (nusoap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6"/>
          <p:cNvSpPr/>
          <p:nvPr/>
        </p:nvSpPr>
        <p:spPr>
          <a:xfrm>
            <a:off x="76320" y="457200"/>
            <a:ext cx="89154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require_once("WsdlPhpLib/nusoap.php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require_once("h1Bib.php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function ping () {  return h1Bib::ping();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function upcase ($s) {  return h1Bib::upcase($s);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function add ($a, $b) {  return h1Bib::add($a, $b);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$serviciu = new nusoap_server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$serviciu-&gt;configureWSDL($pathServ, $n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$serviciu-&gt;wsdl-&gt;schemaTargetNamespace = $n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$serviciu-&gt;register("ping"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rray(),  array("return" =&gt; "xsd:string"),   $ns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$serviciu-&gt;register("upcase"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rray("s" =&gt; "xsd:string"),  array("return" =&gt; "xsd:string"),    $ns 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$serviciu-&gt;register("add"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rray("a" =&gt; "xsd:int", "b" =&gt; "xsd:int"),  array("return" =&gt; "xsd:int"),   $ns    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$HTTP_RAW_POST_DATA = isset($HTTP_RAW_POST_DATA) ? $HTTP_RAW_POST_DATA : "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$serviciu-&gt;service($HTTP_RAW_POST_DAT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EA669-A03E-4E87-B822-58518EB2CD65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781680" y="6492960"/>
            <a:ext cx="2362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Fl_Macs_2010__</a:t>
            </a:r>
            <a:fld id="{C7A8D206-FA73-4008-B802-9800997B7F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-XX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5. SOAP Python (jpk/SoapLib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0" y="45720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@soapmethod(_returns=Str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def ping(self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return `self.bib.ping()`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@soapmethod(String, _returns=Str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def upcase(self, 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return `self.bib.upcase(s)`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@soapmethod(Integer, Integer, _returns=Integ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def add(self, a, b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return int(`self.bib.add(a, b)`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def start(self, urlHostPort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dp = urlHostPort.rfind(":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ort = int(urlHostPort[dp + 1: urlHostPort.rfind("/")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elf.bib = y1Bib.y1Bib("Soap", "Sy1", po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rint "Python Soap Sy1 waiting at:" + urlHost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erviciu = make_server(urlHostPort[urlHostPort.find("://") + 3 : dp], port, sel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erviciu.serve_forever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8A229-B75D-49F9-ADA2-A8BBCC059328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6858000" y="6492960"/>
            <a:ext cx="2286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Fl_Macs_2010__</a:t>
            </a:r>
            <a:fld id="{5588848E-2A40-42CE-9040-A268A9A381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-XX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5. SOAP Clients: Stub for each (language client, implementation servi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28600" y="380880"/>
          <a:ext cx="8610480" cy="1371600"/>
        </p:xfrm>
        <a:graphic>
          <a:graphicData uri="http://schemas.openxmlformats.org/drawingml/2006/table">
            <a:tbl>
              <a:tblPr/>
              <a:tblGrid>
                <a:gridCol w="1722600"/>
                <a:gridCol w="1722240"/>
                <a:gridCol w="1720800"/>
                <a:gridCol w="1722600"/>
                <a:gridCol w="1722240"/>
              </a:tblGrid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ient\Servic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#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a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yth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#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a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yth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TextBox 7"/>
          <p:cNvSpPr/>
          <p:nvPr/>
        </p:nvSpPr>
        <p:spPr>
          <a:xfrm>
            <a:off x="0" y="2057400"/>
            <a:ext cx="91440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bs generation for clients: a stub for each language client and servic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C# gener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0000"/>
                </a:solidFill>
                <a:latin typeface="Arial"/>
              </a:rPr>
              <a:t>"C:\Program Files\Microsoft SDKs\Windows\v6.0A\bin\wsdl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0000"/>
                </a:solidFill>
                <a:latin typeface="Arial"/>
              </a:rPr>
              <a:t>                     </a:t>
            </a:r>
            <a:r>
              <a:rPr b="0" lang="ro-RO" sz="1600" spc="-1" strike="noStrike">
                <a:solidFill>
                  <a:srgbClr val="ff0000"/>
                </a:solidFill>
                <a:latin typeface="Arial"/>
              </a:rPr>
              <a:t>http://win.scs.ubbcluj.ro:80/~florin/Ss1Serv.asmx?wsdl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0000"/>
                </a:solidFill>
                <a:latin typeface="Arial"/>
              </a:rPr>
              <a:t>c:\Windows\Microsoft.NET\Framework\v3.5\csc /t:library Ss1Serv.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0000"/>
                </a:solidFill>
                <a:latin typeface="Arial"/>
              </a:rPr>
              <a:t>c:\Windows\Microsoft.NET\Framework\v3.5\csc /r:Ss1Serv.dll Sss1Clie.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Arial"/>
              </a:rPr>
              <a:t>Java generation:</a:t>
            </a:r>
            <a:r>
              <a:rPr b="0" lang="ro-RO" sz="1600" spc="-1" strike="noStrike">
                <a:solidFill>
                  <a:srgbClr val="00b05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b050"/>
                </a:solidFill>
                <a:latin typeface="Arial"/>
              </a:rPr>
              <a:t>apt -d . j1Bib.java Sj1Serv.j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Arial"/>
              </a:rPr>
              <a:t>PHP gener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2060"/>
                </a:solidFill>
                <a:latin typeface="Arial"/>
              </a:rPr>
              <a:t>$serviciu = new nusoap_client($urlHostPort . "?wsdl", tru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2060"/>
                </a:solidFill>
                <a:latin typeface="Arial"/>
              </a:rPr>
              <a:t>$response = $serviciu-&gt;call("ping", array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Arial"/>
              </a:rPr>
              <a:t>Python generatio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70c0"/>
                </a:solidFill>
                <a:latin typeface="Arial"/>
              </a:rPr>
              <a:t>serviciu = Client(urlHostPort + '?wsdl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70c0"/>
                </a:solidFill>
                <a:latin typeface="Arial"/>
              </a:rPr>
              <a:t>print "ping: \t" + `serviciu.service.ping()`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F7EAC-973D-495B-A165-6AD701348D6D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4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Fl_Macs_2010__</a:t>
            </a:r>
            <a:fld id="{ED21F8E6-7842-4780-97F1-8B4C7B152F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-XX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5. SOAP interoperability (full, except C# or Java clients and Python servi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6"/>
          <p:cNvSpPr/>
          <p:nvPr/>
        </p:nvSpPr>
        <p:spPr>
          <a:xfrm>
            <a:off x="152280" y="457200"/>
            <a:ext cx="8763120" cy="60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 u="sng">
                <a:solidFill>
                  <a:srgbClr val="000000"/>
                </a:solidFill>
                <a:uFillTx/>
                <a:latin typeface="Arial"/>
              </a:rPr>
              <a:t>D:\Florin\Carti\SWMPA\Soap\Cs\Exec&gt;Sss1Cl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Client Soap C#: Ss1Ser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ping:   C# Soap Ss1:    win.scs.ubbcluj.ro (172.30.0.14:80) 6/15/2010 11:32:38 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 u="sng">
                <a:solidFill>
                  <a:srgbClr val="000000"/>
                </a:solidFill>
                <a:uFillTx/>
                <a:latin typeface="Arial"/>
              </a:rPr>
              <a:t>D:\Florin\Carti\SWMPA\Soap\Cs\Exec&gt;Ssj1Cl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Client Soap C#: Sj1Serv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ping:   Java Soap Sj1: fmb (172.30.119.149: 2002), Tue Jun 15 12:43:12 EEST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 u="sng">
                <a:solidFill>
                  <a:srgbClr val="000000"/>
                </a:solidFill>
                <a:uFillTx/>
                <a:latin typeface="Arial"/>
              </a:rPr>
              <a:t>D:\Florin\Carti\SWMPA\Soap\Java\Exec&gt;java -Djava.util.logging.config.file=NIMIC -cp .;Ss1Proxy.jar Sjs1Cl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Client Soap Java: JAX-WS RI 2.1.6 in JDK 6: Stub for http://win.scs.ubbcluj.ro/~florin/Ss1Serv.asm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ping:   C# Soap Ss1:    win.scs.ubbcluj.ro (172.30.0.14:80) 6/15/2010 1:11:25 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localhost/Shs1Clie.ph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Client Soap Php: SoapClient::__set_state(array( '_soap_version' =&gt; 1, 'sdl' =&gt; NULL, 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ping: C# Soap Ss1: win.scs.ubbcluj.ro (172.30.0.14:80) 6/16/2010 8:48:25 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localhost/Shy1Clie.ph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Client Soap Php: SoapClient::__set_state(array( '_soap_version' =&gt; 1, 'sdl' =&gt; NULL, 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ping: 'Python Soap Sy1: fmb(172.30.119.149:2004), datetime.datetime(2010, 6, 16, 9, 5, 37, 58000)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 u="sng">
                <a:solidFill>
                  <a:srgbClr val="000000"/>
                </a:solidFill>
                <a:uFillTx/>
                <a:latin typeface="Arial"/>
              </a:rPr>
              <a:t>D:\Florin\Carti\SWMPA\Soap\Python\Exec&gt; Sy1Clie.py http://win.scs.ubbcluj.ro:80/~florin/Ss1Serv.asm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Client Soap Python: &lt;suds.client.Client object at 0x012FC450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ping:   C# Soap Ss1:    win.scs.ubbcluj.ro (172.30.0.14:80) 6/15/2010 12:05:03 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 u="sng">
                <a:solidFill>
                  <a:srgbClr val="000000"/>
                </a:solidFill>
                <a:uFillTx/>
                <a:latin typeface="Arial"/>
              </a:rPr>
              <a:t>D:\Florin\Carti\SWMPA\Soap\Python\Exec&gt; Sy1Clie.py http://localhost:2002/Sj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Client Soap Python: &lt;suds.client.Client object at 0x0124C450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ping:   Java Soap Sj1: fmb (172.30.119.149: 2002), Tue Jun 15 12:01:10 EEST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 u="sng">
                <a:solidFill>
                  <a:srgbClr val="000000"/>
                </a:solidFill>
                <a:uFillTx/>
                <a:latin typeface="Arial"/>
              </a:rPr>
              <a:t>D:\Florin\Carti\SWMPA\Soap\Python\Exec&gt;Sy1Clie.p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Client Soap Python: &lt;suds.client.Client object at 0x0132C450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ping:   'Python Soap Sy1: fmb(172.30.119.149:2004), datetime.datetime(2010, 6, 15, 11, 58, 46, 637000)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 u="sng">
                <a:solidFill>
                  <a:srgbClr val="000000"/>
                </a:solidFill>
                <a:uFillTx/>
                <a:latin typeface="Arial"/>
              </a:rPr>
              <a:t>D:\Florin\Carti\SWMPA\Soap\Java\Exec&gt;java -Djava.util.logging.config.file=NIMIC Sjh1Cl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Client Soap Java: _1._0._0._127.Sh1.Sh1BindingStub@161f10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ping:   Php Soap Sh1: localhost (127.0.0.1:80), 2010.06.16 15:01:5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AD5A4-9B76-4DAA-BF03-996D813F6403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4"/>
          <p:cNvSpPr/>
          <p:nvPr/>
        </p:nvSpPr>
        <p:spPr>
          <a:xfrm>
            <a:off x="7315200" y="649296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Fl_Macs_2010__</a:t>
            </a:r>
            <a:fld id="{02091C5F-A6A9-4EF1-A322-33D4FBDE15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-XX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TITL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A259E-4715-408D-9779-019E6D8927F8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7315200" y="649296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Fl_Macs_2010__</a:t>
            </a:r>
            <a:fld id="{49BEE3C9-1233-4460-ABEA-C6817B2004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-XX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TITL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DDDC6-0D2D-4833-8902-E09F8AA6744F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4"/>
          <p:cNvSpPr/>
          <p:nvPr/>
        </p:nvSpPr>
        <p:spPr>
          <a:xfrm>
            <a:off x="7315200" y="649296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Fl_Macs_2010__</a:t>
            </a:r>
            <a:fld id="{CAE5663B-4F3A-4C0A-BE19-90BBBF47E4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-XX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TITL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B9B79-0411-46D2-BBC0-6C4DDDAE296E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4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Fl_Macs_2010__</a:t>
            </a:r>
            <a:fld id="{DA90D7E4-FBB8-40B1-A5E7-EC190761C8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-XX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5. SOAP – scenario + architec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4021200" cy="3962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838080" y="5181480"/>
            <a:ext cx="7324920" cy="1181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Webservices"/>
          <p:cNvPicPr/>
          <p:nvPr/>
        </p:nvPicPr>
        <p:blipFill>
          <a:blip r:embed="rId3"/>
          <a:stretch/>
        </p:blipFill>
        <p:spPr>
          <a:xfrm>
            <a:off x="5334120" y="609480"/>
            <a:ext cx="308592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7CE2F-7B16-42C3-94F0-9C4C6C3C2879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4"/>
          <p:cNvSpPr/>
          <p:nvPr/>
        </p:nvSpPr>
        <p:spPr>
          <a:xfrm>
            <a:off x="7315200" y="649296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Fl_Macs_2010__</a:t>
            </a:r>
            <a:fld id="{5DDFBE45-354B-4C0D-B694-04E120659F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-XX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SOAP mes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primer-figure-1"/>
          <p:cNvPicPr/>
          <p:nvPr/>
        </p:nvPicPr>
        <p:blipFill>
          <a:blip r:embed="rId1"/>
          <a:stretch/>
        </p:blipFill>
        <p:spPr>
          <a:xfrm>
            <a:off x="228600" y="1523880"/>
            <a:ext cx="3048120" cy="4191120"/>
          </a:xfrm>
          <a:prstGeom prst="rect">
            <a:avLst/>
          </a:prstGeom>
          <a:ln w="0">
            <a:noFill/>
          </a:ln>
        </p:spPr>
      </p:pic>
      <p:sp>
        <p:nvSpPr>
          <p:cNvPr id="63" name="TextBox 7"/>
          <p:cNvSpPr/>
          <p:nvPr/>
        </p:nvSpPr>
        <p:spPr>
          <a:xfrm>
            <a:off x="3276720" y="457200"/>
            <a:ext cx="50292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&lt;?xml version="1.0"?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&lt;soap:Envelope xmlns:soap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"http://www.w3.org/2001/12/soap-envelope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oap:encodingStyle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"http://www.w3.org/2001/12/soap-encoding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&lt;soap:Head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&lt;/soap:Head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&lt;soap: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&lt;soap:Faul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&lt;/soap:Faul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&lt;/soap: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&lt;/soap:Envelop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7550F-5522-4070-AC06-16DD721D252D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4"/>
          <p:cNvSpPr/>
          <p:nvPr/>
        </p:nvSpPr>
        <p:spPr>
          <a:xfrm>
            <a:off x="7315200" y="649296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Fl_Macs_2010__</a:t>
            </a:r>
            <a:fld id="{816872B0-E03F-4735-B153-9573BF342A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-XX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SOAP Request - Respon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8"/>
          <p:cNvSpPr/>
          <p:nvPr/>
        </p:nvSpPr>
        <p:spPr>
          <a:xfrm>
            <a:off x="0" y="457200"/>
            <a:ext cx="8763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&lt;?xml version="1.0"?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&lt;soap:Envel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xmlns:soap="http://www.w3.org/2001/12/soap-envelope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oap:encodingStyle="http://www.w3.org/2001/12/soap-encoding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&lt;soap: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&lt;m:GetPrice xmlns:m="http://www.w3schools.com/prices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&lt;m:Item&gt;Apples&lt;/m:Item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&lt;/m:GetPric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&lt;/soap: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&lt;/soap:Envelop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0"/>
          <p:cNvSpPr/>
          <p:nvPr/>
        </p:nvSpPr>
        <p:spPr>
          <a:xfrm>
            <a:off x="1371600" y="3429000"/>
            <a:ext cx="7772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&lt;?xml version="1.0"?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&lt;soap:Envel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xmlns:soap="http://www.w3.org/2001/12/soap-envelope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oap:encodingStyle="http://www.w3.org/2001/12/soap-encoding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&lt;soap: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&lt;m:GetPriceResponse xmlns:m="http://www.w3schools.com/prices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&lt;m:Price&gt;1.90&lt;/m:Pric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&lt;/m:GetPriceRespons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&lt;/soap: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&lt;/soap:Envelop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1CBE8-D51C-4511-A641-131C354D9A35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4"/>
          <p:cNvSpPr/>
          <p:nvPr/>
        </p:nvSpPr>
        <p:spPr>
          <a:xfrm>
            <a:off x="7315200" y="649296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Fl_Macs_2010__</a:t>
            </a:r>
            <a:fld id="{7DAB3D1C-4D56-4BBC-B918-D0197EA9B7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-XX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                                                                                                                         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WSDL struc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Object 1"/>
          <p:cNvGraphicFramePr/>
          <p:nvPr/>
        </p:nvGraphicFramePr>
        <p:xfrm>
          <a:off x="1828800" y="47520"/>
          <a:ext cx="3852720" cy="681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47520"/>
                    <a:ext cx="3852720" cy="681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10EEF-896B-4CB9-A221-DBE8F901FAFA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4"/>
          <p:cNvSpPr/>
          <p:nvPr/>
        </p:nvSpPr>
        <p:spPr>
          <a:xfrm>
            <a:off x="7315200" y="649296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Fl_Macs_2010__</a:t>
            </a:r>
            <a:fld id="{1E47305D-D3E2-415D-B67D-B90D0CD180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-XX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WSDL example 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0" y="380880"/>
            <a:ext cx="89154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efinitions xmlns:soa="http://schemas.xmlsoap.org/wsdl/soap/" xmlns:tns="http://s/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ns:xsd="http://www.w3.org/2001/XMLSchema" xmlns="http://schemas.xmlsoap.org/wsdl/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Namespace="http://s/" name="Sj1ServService"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types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xsd:schema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xsd:import namespace="http://s/" schemaLocation="http://localhost:2002/Sj1S?xsd=1"&gt;&lt;/xsd:import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xsd:schema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types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message name="upcase"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part name="parameters" element="tns:upcase"&gt;&lt;/part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messag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message name="upcaseResponse"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part name="parameters" element="tns:upcaseResponse"&gt;&lt;/part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messag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message name="ping"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part name="parameters" element="tns:ping"&gt;&lt;/part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messag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message name="pingResponse"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part name="parameters" element="tns:pingResponse"&gt;&lt;/part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messag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F59F4-373C-4FC3-9410-1DBCB70583BA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4"/>
          <p:cNvSpPr/>
          <p:nvPr/>
        </p:nvSpPr>
        <p:spPr>
          <a:xfrm>
            <a:off x="7315200" y="649296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Fl_Macs_2010__</a:t>
            </a:r>
            <a:fld id="{0AD203DF-A4D4-4D93-B3BE-C2D42C235E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-XX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WSDL nexample (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0" y="457200"/>
            <a:ext cx="73915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message name="add"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part name="parameters" element="tns:add"&gt;&lt;/part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messag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message name="addResponse"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part name="parameters" element="tns:addResponse"&gt;&lt;/part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messag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portType name="Sj1Serv"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operation name="upcase"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nput message="tns:upcase"&gt;&lt;/input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output message="tns:upcaseResponse"&gt;&lt;/output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operation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operation name="ping"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nput message="tns:ping"&gt;&lt;/input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output message="tns:pingResponse"&gt;&lt;/output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operation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operation name="add"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nput message="tns:add"&gt;&lt;/input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output message="tns:addResponse"&gt;&lt;/output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operation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portTyp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31919-99D0-4B84-9AC9-C847EDB0FC4B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4"/>
          <p:cNvSpPr/>
          <p:nvPr/>
        </p:nvSpPr>
        <p:spPr>
          <a:xfrm>
            <a:off x="7315200" y="649296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Fl_Macs_2010__</a:t>
            </a:r>
            <a:fld id="{D57F4241-C5D1-45A8-A335-D0EBAF790F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-XX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WSDL example (3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0" y="457200"/>
            <a:ext cx="91440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binding name="Sj1ServPortBinding" type="tns:Sj1Serv"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soap:binding transport="http://schemas.xmlsoap.org/soap/http" style="document"&gt;&lt;/soap:binding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operation name="upcase"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soap:operation soapAction=""&gt;&lt;/soap:operation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nput&gt;         &lt;soap:body use="literal"&gt;&lt;/soap:body&gt;       &lt;/input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output&gt;         &lt;soap:body use="literal"&gt;&lt;/soap:body&gt;       &lt;/output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operation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operation name="ping"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soap:operation soapAction=""&gt;&lt;/soap:operation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nput&gt;         &lt;soap:body use="literal"&gt;&lt;/soap:body&gt;       &lt;/input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output&gt;         &lt;soap:body use="literal"&gt;&lt;/soap:body&gt;       &lt;/output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operation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operation name="add"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soap:operation soapAction=""&gt;&lt;/soap:operation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nput&gt;         &lt;soap:body use="literal"&gt;&lt;/soap:body&gt;       &lt;/input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output&gt;         &lt;soap:body use="literal"&gt;&lt;/soap:body&gt;       &lt;/output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operation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bindin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service name="Sj1ServService"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port name="Sj1ServPort" binding="tns:Sj1ServPortBinding"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soap:address location="http://localhost:2002/Sj1S"&gt;&lt;/soap:address&gt;    &lt;/port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service&gt; &lt;/definitions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2E6BA-3045-40CC-9A6B-EDC5CAA2CA08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4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Fl_Macs_2010__</a:t>
            </a:r>
            <a:fld id="{91828D76-6F82-47F7-B1BF-350B881267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-XX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5. SOAP C# (asmx fil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6"/>
          <p:cNvSpPr/>
          <p:nvPr/>
        </p:nvSpPr>
        <p:spPr>
          <a:xfrm>
            <a:off x="838080" y="457200"/>
            <a:ext cx="67820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&lt;%@ WebService language="C#" class="Ss1Serv" %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using Syste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using System.Ne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using System.Web.Servic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using System.Xml.Serializa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[WebServic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ublic class Ss1Serv : WebServic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[WebMethod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ublic String ping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IPHostEntry host = Dns.GetHostEntry(Dns.GetHostName(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return "C# Soap Ss1: \t"+host.HostName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" ("+host.AddressList[0]+":80) " + DateTime.Now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[WebMethod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ublic String upcase(String s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return s.ToUppe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[WebMethod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ublic int add(int a, int b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return a + 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6T05:05:29Z</dcterms:created>
  <dc:creator>florin</dc:creator>
  <dc:description/>
  <dc:language>en-US</dc:language>
  <cp:lastModifiedBy>florin</cp:lastModifiedBy>
  <dcterms:modified xsi:type="dcterms:W3CDTF">2011-04-06T11:15:56Z</dcterms:modified>
  <cp:revision>170</cp:revision>
  <dc:subject/>
  <dc:title>HTTP: prezentare generala</dc:title>
</cp:coreProperties>
</file>