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4400" y="74268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7C75-3DA5-4C42-B69A-A4BF2A06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9673-9AEB-40AB-B910-C3B4DE519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DE28-2328-4944-B4C2-4205F0B5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2520" y="4687560"/>
            <a:ext cx="58896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discovery document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DD52-C565-4554-A5EE-4E634A1F8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2520" y="4687560"/>
            <a:ext cx="58896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Ref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A906-B719-4E20-B1C9-6AF7E416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347B-9A5B-452B-BDBA-65B804A4E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F758-BC87-4401-9331-1E3A899FE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1760" y="4717800"/>
            <a:ext cx="637380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3997-40C4-4443-843A-0838B8037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2520" y="4687920"/>
            <a:ext cx="58896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756-AF11-4F85-B678-F62A9DFB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9680" y="3466800"/>
            <a:ext cx="853308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F51-2D2E-4DCF-8A59-9447C67A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41641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2240" y="1337760"/>
            <a:ext cx="41641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9680" y="3466800"/>
            <a:ext cx="41641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2240" y="3466800"/>
            <a:ext cx="41641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279-3388-4DAD-94DF-597981DF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2747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5080" y="1337760"/>
            <a:ext cx="2747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0120" y="1337760"/>
            <a:ext cx="2747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9680" y="3466800"/>
            <a:ext cx="2747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5080" y="3466800"/>
            <a:ext cx="2747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0120" y="3466800"/>
            <a:ext cx="2747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E05-C214-4BDB-81E7-4E5FBEB5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9680" y="1337760"/>
            <a:ext cx="853308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92E-D2D3-4A71-9259-A78B5125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2D8-13B4-4A9C-BA52-5EA31DE7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41641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2240" y="1337760"/>
            <a:ext cx="41641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C0B-BF8A-4EE3-9087-065CA066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F73-858F-4FE4-9305-97C4BF01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12600"/>
            <a:ext cx="914400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E3B-ECB7-4EF3-8216-CA10DB4A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41641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2240" y="1337760"/>
            <a:ext cx="41641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9680" y="3466800"/>
            <a:ext cx="41641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BF7-669C-4F56-984D-9DA7F35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41641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2240" y="1337760"/>
            <a:ext cx="41641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2240" y="3466800"/>
            <a:ext cx="41641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1A4-427B-48BD-9393-66D3AB3A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41641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2240" y="1337760"/>
            <a:ext cx="41641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9680" y="3466800"/>
            <a:ext cx="853308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661-680E-4DFC-9DB9-EDB6E7FA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microsoft.com/germany/msdn/techtalk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9680" y="1337760"/>
            <a:ext cx="853308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434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51480" indent="-4525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81040" indent="-4165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81040" indent="-416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81040" indent="-416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DD97-0752-4958-A09D-786A95A78E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C:\TEMP\MSTechTalk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48720" y="33480"/>
            <a:ext cx="121896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kman@microsoft.co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Submission/2000/05/" TargetMode="External"/><Relationship Id="rId2" Type="http://schemas.openxmlformats.org/officeDocument/2006/relationships/hyperlink" Target="http://www.w3.org/tr/soap/" TargetMode="External"/><Relationship Id="rId3" Type="http://schemas.openxmlformats.org/officeDocument/2006/relationships/hyperlink" Target="http://www.w3.org/2000/xp/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dbox@develop.com" TargetMode="External"/><Relationship Id="rId2" Type="http://schemas.openxmlformats.org/officeDocument/2006/relationships/hyperlink" Target="mailto:davide@us.ibm.com" TargetMode="External"/><Relationship Id="rId3" Type="http://schemas.openxmlformats.org/officeDocument/2006/relationships/hyperlink" Target="mailto:gopalk@microsoft.com" TargetMode="External"/><Relationship Id="rId4" Type="http://schemas.openxmlformats.org/officeDocument/2006/relationships/hyperlink" Target="mailto:andrewl@microsoft.com" TargetMode="External"/><Relationship Id="rId5" Type="http://schemas.openxmlformats.org/officeDocument/2006/relationships/hyperlink" Target="mailto:Noah_Mendelsohn@lotus.com" TargetMode="External"/><Relationship Id="rId6" Type="http://schemas.openxmlformats.org/officeDocument/2006/relationships/hyperlink" Target="mailto:frystyk@microsoft.com" TargetMode="External"/><Relationship Id="rId7" Type="http://schemas.openxmlformats.org/officeDocument/2006/relationships/hyperlink" Target="mailto:satisht@microsoft.com" TargetMode="External"/><Relationship Id="rId8" Type="http://schemas.openxmlformats.org/officeDocument/2006/relationships/hyperlink" Target="mailto:dave@userland.com" TargetMode="External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xml.apache.org/" TargetMode="External"/><Relationship Id="rId2" Type="http://schemas.openxmlformats.org/officeDocument/2006/relationships/hyperlink" Target="http://www.develop.com/soap/default.htm" TargetMode="External"/><Relationship Id="rId3" Type="http://schemas.openxmlformats.org/officeDocument/2006/relationships/hyperlink" Target="http://www.geocities.com/paulclinger/soap.html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82400" y="1433520"/>
            <a:ext cx="7737480" cy="21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Introduction to SO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alkthrough of Core Technical Conce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k Mant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ff"/>
                </a:solidFill>
                <a:uFillTx/>
                <a:latin typeface="Arial"/>
                <a:hlinkClick r:id="rId1"/>
              </a:rPr>
              <a:t>Frankman@microsoft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r SOAP by Itself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38200" y="1206360"/>
            <a:ext cx="7951680" cy="44830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SOAP:Envelope xmlns:SOAP="http://schemas.xmlsoap.org/soap/envelope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SOAP:encodingStyle="http://schemas.xmlsoap.org/soap/encoding/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&lt;SOAP:Header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&lt;m:MessageInfo xmlns:m="http://www.wapforum.org/soap/message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&lt;m:to href="mailto:you@your.com"/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&lt;m:from href="mailto:me@my.com"/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&lt;m:contact href="mailto:someone@my.com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&lt;/m:MessageInfo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&lt;/SOAP:Header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&lt;SOAP:Body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&lt;msg:Message xmlns:m="http://www.wapforum.org/soap/message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&lt;msg:subject&gt;Your house is on fire!&lt;/msg:subject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&lt;msg:liveUpdate href="http://your.house.is.on.fire.com/rightnow"/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&lt;/msg:Message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&lt;/SOAP:Body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/SOAP:Envelope&gt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 is a Protocol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es this mea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distributed object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 RPC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v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Web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application decides what your application i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build a tightly coupled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build a loosely coupled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oes this matt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means that you have to think about how you design your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ings to Think About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55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f a WebService is dow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I just di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do I allow for graceful fail-ov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do I put state associated with a WebServi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global variab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do I stick it in the message so that the message represents all the state needed to carry 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do I put assumptions about the implement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messag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in the implementation leaving the message implementation independen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ths about SOAP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54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AP is for RPC only! N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doesn't define or imply a programming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can be used for messaging, RPC, Distributed object systems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AP is for HTTP only! N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can be used in combination with any protocol that can carry a SOAP envel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currently defines bindings to HTTP and HTTP Extension Framework - others can be ad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AP is request/response! N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doesn't define a message exchange patte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defined in SOAP or inherited from protocol bi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mtra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Message Mode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555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train is a SOAP mess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starts in the departure city, stops at a set of intermediate cities, and stops at the destination c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ity is a SOAP process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sures that passengers get on and of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enger tickets are verif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assenger is a SOAP feature or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assenger can get on an off at any st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engers can mix in arbitrary w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model can be put together to form arbitrary message grap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SOAP Envelop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51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AP envelope defines a SOAP mes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c unit of exchange between SOAP process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flex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AP messages are one-way transmi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sender through intermediaries to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ten combined to implement patterns such as request/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ages are routed along a "message path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for processing at one or more intermediate nodes in addition to the ultimate destination nod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ode is a SOAP processor and is identified by a UR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 Header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532720" cy="373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for modular addition of features an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-ended set of he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395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ation, privacy, security etc.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address any SOAP processor using the "actor" attribu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optional/mandatory using the "mustUnderstand" attribu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1066680" y="4724280"/>
            <a:ext cx="1219320" cy="838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2895480" y="4724280"/>
            <a:ext cx="1371600" cy="838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://ba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4952880" y="4724280"/>
            <a:ext cx="1371600" cy="838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://toto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858000" y="4724280"/>
            <a:ext cx="1447920" cy="838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://foo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103" name="AutoShape 8"/>
          <p:cNvCxnSpPr>
            <a:stCxn id="99" idx="6"/>
            <a:endCxn id="100" idx="2"/>
          </p:cNvCxnSpPr>
          <p:nvPr/>
        </p:nvCxnSpPr>
        <p:spPr>
          <a:xfrm>
            <a:off x="2285640" y="5143320"/>
            <a:ext cx="610200" cy="108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</p:cxnSp>
      <p:cxnSp>
        <p:nvCxnSpPr>
          <p:cNvPr id="104" name="AutoShape 9"/>
          <p:cNvCxnSpPr>
            <a:stCxn id="100" idx="6"/>
            <a:endCxn id="101" idx="2"/>
          </p:cNvCxnSpPr>
          <p:nvPr/>
        </p:nvCxnSpPr>
        <p:spPr>
          <a:xfrm>
            <a:off x="4266720" y="5143320"/>
            <a:ext cx="686520" cy="108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</p:cxnSp>
      <p:cxnSp>
        <p:nvCxnSpPr>
          <p:cNvPr id="105" name="AutoShape 10"/>
          <p:cNvCxnSpPr>
            <a:stCxn id="101" idx="6"/>
            <a:endCxn id="102" idx="2"/>
          </p:cNvCxnSpPr>
          <p:nvPr/>
        </p:nvCxnSpPr>
        <p:spPr>
          <a:xfrm>
            <a:off x="6324480" y="5143320"/>
            <a:ext cx="534240" cy="108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</p:cxnSp>
      <p:cxnSp>
        <p:nvCxnSpPr>
          <p:cNvPr id="106" name="AutoShape 11"/>
          <p:cNvCxnSpPr>
            <a:stCxn id="99" idx="4"/>
            <a:endCxn id="101" idx="3"/>
          </p:cNvCxnSpPr>
          <p:nvPr/>
        </p:nvCxnSpPr>
        <p:spPr>
          <a:xfrm flipH="1" flipV="1" rot="5400000">
            <a:off x="3353040" y="3762000"/>
            <a:ext cx="123120" cy="3478680"/>
          </a:xfrm>
          <a:prstGeom prst="curvedConnector5">
            <a:avLst>
              <a:gd name="adj1" fmla="val -186803"/>
              <a:gd name="adj2" fmla="val 50000"/>
              <a:gd name="adj3" fmla="val -186803"/>
            </a:avLst>
          </a:prstGeom>
          <a:ln w="3816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107" name="AutoShape 12"/>
          <p:cNvCxnSpPr>
            <a:stCxn id="99" idx="0"/>
            <a:endCxn id="100" idx="1"/>
          </p:cNvCxnSpPr>
          <p:nvPr/>
        </p:nvCxnSpPr>
        <p:spPr>
          <a:xfrm flipH="1" rot="16200000">
            <a:off x="2325600" y="4074840"/>
            <a:ext cx="123120" cy="1421280"/>
          </a:xfrm>
          <a:prstGeom prst="curvedConnector5">
            <a:avLst>
              <a:gd name="adj1" fmla="val -186803"/>
              <a:gd name="adj2" fmla="val 49987"/>
              <a:gd name="adj3" fmla="val -186803"/>
            </a:avLst>
          </a:prstGeom>
          <a:ln w="38160">
            <a:solidFill>
              <a:srgbClr val="b129bb"/>
            </a:solidFill>
            <a:miter/>
            <a:tailEnd len="med" type="triangle" w="med"/>
          </a:ln>
        </p:spPr>
      </p:cxnSp>
      <p:cxnSp>
        <p:nvCxnSpPr>
          <p:cNvPr id="108" name="AutoShape 13"/>
          <p:cNvCxnSpPr>
            <a:stCxn id="99" idx="4"/>
            <a:endCxn id="102" idx="4"/>
          </p:cNvCxnSpPr>
          <p:nvPr/>
        </p:nvCxnSpPr>
        <p:spPr>
          <a:xfrm flipH="1" rot="16200000">
            <a:off x="4628520" y="2610360"/>
            <a:ext cx="2160" cy="5906160"/>
          </a:xfrm>
          <a:prstGeom prst="curvedConnector5">
            <a:avLst>
              <a:gd name="adj1" fmla="val 27780000"/>
              <a:gd name="adj2" fmla="val 49996"/>
              <a:gd name="adj3" fmla="val 2778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AutoShape 14"/>
          <p:cNvCxnSpPr>
            <a:stCxn id="100" idx="0"/>
            <a:endCxn id="102" idx="0"/>
          </p:cNvCxnSpPr>
          <p:nvPr/>
        </p:nvCxnSpPr>
        <p:spPr>
          <a:xfrm flipH="1" rot="16200000">
            <a:off x="5580360" y="2723760"/>
            <a:ext cx="2520" cy="40014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mantics of Header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52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ct between sender and recip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ipient is described by "actor" attribu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for different types of negotiatio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it or leave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's talk about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for different setting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er dict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er-to-pe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ctated by third par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tor Attribu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36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"Actor" attribute is a generalization of the HTTP Connection header fie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ead of hop-by-hop vs. end-to-end, the actor attribute can address any SOAP processor because it is a UR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cas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next hop" has a special URI assigned to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end" is the default destination for a hea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ustUnderstand Attribu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359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"mustUnderstand" is the same as the "mandatory" in the HTTP Extension Frame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that the receiving SOAP processor must accept, understand and obey semantics of header or fa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allows old applications to gracefully fail on services that they do not underst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55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SOAP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walkthrough of SO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t is in practical ter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he design is behind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the purpose of SOA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it solv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n’t it solv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ssues invol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 Bod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32720" cy="316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al case of he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ault contract between sender and ultimate recipi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d as a header with attributes set 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395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icit mustUnderstand attribute is always "yes"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395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icit actor attribute is always "the end"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1066680" y="4191120"/>
            <a:ext cx="1219320" cy="838080"/>
          </a:xfrm>
          <a:prstGeom prst="ellipse">
            <a:avLst/>
          </a:prstGeom>
          <a:solidFill>
            <a:srgbClr val="b129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2895480" y="4191120"/>
            <a:ext cx="1371600" cy="8380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://ba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4952880" y="4191120"/>
            <a:ext cx="1371600" cy="8380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://toto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858000" y="4191120"/>
            <a:ext cx="1447920" cy="838080"/>
          </a:xfrm>
          <a:prstGeom prst="ellipse">
            <a:avLst/>
          </a:prstGeom>
          <a:solidFill>
            <a:srgbClr val="b129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://foo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122" name="AutoShape 8"/>
          <p:cNvCxnSpPr>
            <a:stCxn id="118" idx="6"/>
            <a:endCxn id="119" idx="2"/>
          </p:cNvCxnSpPr>
          <p:nvPr/>
        </p:nvCxnSpPr>
        <p:spPr>
          <a:xfrm>
            <a:off x="2285640" y="4609800"/>
            <a:ext cx="610200" cy="108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</p:cxnSp>
      <p:cxnSp>
        <p:nvCxnSpPr>
          <p:cNvPr id="123" name="AutoShape 9"/>
          <p:cNvCxnSpPr>
            <a:stCxn id="119" idx="6"/>
            <a:endCxn id="120" idx="2"/>
          </p:cNvCxnSpPr>
          <p:nvPr/>
        </p:nvCxnSpPr>
        <p:spPr>
          <a:xfrm>
            <a:off x="4266720" y="4609800"/>
            <a:ext cx="686520" cy="108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</p:cxnSp>
      <p:cxnSp>
        <p:nvCxnSpPr>
          <p:cNvPr id="124" name="AutoShape 10"/>
          <p:cNvCxnSpPr>
            <a:stCxn id="120" idx="6"/>
            <a:endCxn id="121" idx="2"/>
          </p:cNvCxnSpPr>
          <p:nvPr/>
        </p:nvCxnSpPr>
        <p:spPr>
          <a:xfrm>
            <a:off x="6324480" y="4609800"/>
            <a:ext cx="534240" cy="108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</p:cxnSp>
      <p:cxnSp>
        <p:nvCxnSpPr>
          <p:cNvPr id="125" name="AutoShape 11"/>
          <p:cNvCxnSpPr>
            <a:stCxn id="118" idx="4"/>
            <a:endCxn id="121" idx="4"/>
          </p:cNvCxnSpPr>
          <p:nvPr/>
        </p:nvCxnSpPr>
        <p:spPr>
          <a:xfrm flipH="1" rot="16200000">
            <a:off x="4628520" y="2076840"/>
            <a:ext cx="2160" cy="5906160"/>
          </a:xfrm>
          <a:prstGeom prst="curvedConnector5">
            <a:avLst>
              <a:gd name="adj1" fmla="val 46380000"/>
              <a:gd name="adj2" fmla="val 49996"/>
              <a:gd name="adj3" fmla="val 4638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 Faul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52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30760" indent="-2307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AP Fault mechanism is designed to support the composability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0240" indent="-226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not a scarce resource as in HTTP where there can be only one (the Highlander princi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OAP message can carry one SOAP Fault el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0240" indent="-226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placed in the Body of the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ault Detail element carries information for faults resulting from the bo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ail information for faults resulting from headers are carried in the hea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AP fault code extension mechanism is for SOAP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0240" indent="-226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faults should use existing SOAP fault c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0240" indent="-226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is for request faults, Server is for processing fa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 Fault Exampl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14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OAP message containing an authentication servic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8200" y="2666880"/>
            <a:ext cx="7951680" cy="31114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SOAP:Envelope xmlns:SOAP="http://schemas.xmlsoap.org/soap/envelope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SOAP:encodingStyle="http://schemas.xmlsoap.org/soap/encoding/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&lt;SOAP:Header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&lt;m:Authentication xmlns:m="http://www.auth.org/simple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&lt;m:credentials&gt;Henrik&lt;/m:credentials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&lt;/m:Authentication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&lt;/SOAP:Header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&lt;SOAP:Body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… body goes here …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/SOAP:Body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/SOAP:Envelope&gt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 Fault Example… 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15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s in a fault because the credentials were ba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8200" y="2666880"/>
            <a:ext cx="7951680" cy="39344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SOAP:Envelope xmlns:SOAP="http://schemas.xmlsoap.org/soap/envelope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SOAP:encodingStyle="http://schemas.xmlsoap.org/soap/encoding/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&lt;SOAP:Header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&lt;m:Authentication xmlns:m="http://www.auth.org/simple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&lt;m:realm&gt;Magic Kindom&lt;/m:realm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&lt;/m:Authentication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&lt;/SOAP:Header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&lt;SOAP:Body&gt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SOAP:Fault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&lt;SOAP:faultcode&gt;SOAP:Client&lt;/faultcode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&lt;SOAP:faultstring&gt;Client Error&lt;/faultstring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&lt;/SOAP:Fault&gt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/SOAP:Body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/SOAP:Envelope&gt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9182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77600"/>
            <a:ext cx="7925040" cy="509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XML-based grammar for describing the capabilities of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ly developed by Microsoft and IB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gence of SDL/SCL and NASS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ilar in concept to IDL, but it’s not ID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L is platform depend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SDL is platform independ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SDL Example (1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51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3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?xml version="1.0"?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message name="GetLastTradePriceRequest"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0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part name="tickerSymbol" element="xsd:string"/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0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part name="time" element="xsd:timeInstant"/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/message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message name="GetLastTradePriceResponse"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part name="result" type="xsd:float"/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/message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portType name="StockQuotePortType"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0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operation name="GetLastTradePrice"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9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input message="tns:GetLastTradePriceRequest"/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9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output message="tns:GetLastTradePriceResponse"/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0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/operation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&lt;/portType&gt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SDL Example (2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60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binding name="StockQuoteSoapBinding" type="tns:StockQuotePortType"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soap:binding style="rpc" transport="http://schemas.xmlsoap.org/soap/http"/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operation name="GetLastTradePrice"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soap:operation soapAction="http://example.com/GetLastTradePrice"/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input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soap:body use="encoded" 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namespace="http://example.com/stockquote" 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encodingStyle="http://schemas.xmlsoap.org/soap/encoding/"/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/input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output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soap:body use="encoded" namespace="http://example.com/stockquote" 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encodingStyle="http://schemas.xmlsoap.org/soap/encoding/"/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/output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/operation&g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/binding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SDL Example (3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26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service name="StockQuoteService"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documentation&gt;My first service&lt;/documentation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port name="StockQuotePort" binding="tns:StockQuoteBinding"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soap:address location="http://example.com/stockquote"/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/port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/service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&lt;/definitions&gt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17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ISC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iscovery Protoc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Retriev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e Descri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Loca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ype of SOAP Service at UR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17520" y="3162240"/>
            <a:ext cx="4457520" cy="1092240"/>
          </a:xfrm>
          <a:prstGeom prst="rect">
            <a:avLst/>
          </a:prstGeom>
          <a:solidFill>
            <a:srgbClr val="ffcc00"/>
          </a:solidFill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How it work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464160" y="2197080"/>
            <a:ext cx="2286000" cy="2298600"/>
          </a:xfrm>
          <a:prstGeom prst="rect">
            <a:avLst/>
          </a:prstGeom>
          <a:solidFill>
            <a:srgbClr val="33ccff"/>
          </a:solidFill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477120" y="2298600"/>
            <a:ext cx="22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resourc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43080" y="2603520"/>
            <a:ext cx="603216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4813200" y="3645000"/>
            <a:ext cx="162576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90520" y="3192480"/>
            <a:ext cx="444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&lt;discovery&gt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formation about resour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&lt;/discovery&gt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968480" y="22096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 reques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/1.1 Spec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50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AP/1.1 was </a:t>
            </a:r>
            <a:r>
              <a:rPr b="1" lang="en-US" sz="2800" spc="-1" strike="noStrike" u="sng">
                <a:solidFill>
                  <a:srgbClr val="9966ff"/>
                </a:solidFill>
                <a:uFillTx/>
                <a:latin typeface="Arial"/>
                <a:hlinkClick r:id="rId1"/>
              </a:rPr>
              <a:t>submitt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W3C and became a </a:t>
            </a:r>
            <a:r>
              <a:rPr b="1" lang="en-US" sz="2800" spc="-1" strike="noStrike" u="sng">
                <a:solidFill>
                  <a:srgbClr val="9966ff"/>
                </a:solidFill>
                <a:uFillTx/>
                <a:latin typeface="Arial"/>
                <a:hlinkClick r:id="rId2"/>
              </a:rPr>
              <a:t>W3C No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May 8,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3C has just started a </a:t>
            </a:r>
            <a:r>
              <a:rPr b="1" lang="en-US" sz="2800" spc="-1" strike="noStrike" u="sng">
                <a:solidFill>
                  <a:srgbClr val="9966ff"/>
                </a:solidFill>
                <a:uFillTx/>
                <a:latin typeface="Arial"/>
                <a:hlinkClick r:id="rId3"/>
              </a:rPr>
              <a:t>WG on XML 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ul Cotton and Henrik Nielsen are the MS WG representa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9080" indent="-2286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ul Cotton will present the W3C Process tomorr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starting point for this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 rules for standards wo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9080" indent="-2286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gs change as result of the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9080" indent="-2286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ore you put in, the more likely you are to affect the outco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9080" indent="-2286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no guarantee that it always work that way - outcome is based on rough consens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Retrieving WSD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112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sing to retrieve WSD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98400" y="2077920"/>
            <a:ext cx="781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&lt;discovery&gt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&lt;contractRef href=’URL’/&gt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&lt;/discovery&gt;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95360" y="3290760"/>
            <a:ext cx="82296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Aft>
                <a:spcPts val="1199"/>
              </a:spcAft>
              <a:buClr>
                <a:srgbClr val="99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AP services should support DISC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6360" indent="-228600">
              <a:lnSpc>
                <a:spcPct val="85000"/>
              </a:lnSpc>
              <a:spcAft>
                <a:spcPts val="1199"/>
              </a:spcAft>
              <a:buClr>
                <a:srgbClr val="99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turn DISCO document on HTTP G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6360" indent="-228600">
              <a:lnSpc>
                <a:spcPct val="85000"/>
              </a:lnSpc>
              <a:spcAft>
                <a:spcPts val="1199"/>
              </a:spcAft>
              <a:buClr>
                <a:srgbClr val="99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andle SOAP on HTTP POS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91856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DDI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52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al Description, Discovery and Integ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oject to speed interoperability and adoption for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s-based specifications for service description and disco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red operation of a business registry on the we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nership among industry and business lea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 process with clear roadmap to a standards bo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 and Securit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74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PSE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Point-to-point entity authentication and channel encry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hentication is usually via a pre-shared secr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done router-to-rout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size fits all”  encryp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SL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Point-to-point server authentication and channel encry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facto standard on the web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ilds in PKIX (X.509) trust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ypto heavy lifting done by the serv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size fits all” encryp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 and Security (cont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470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/MIM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Mutual authentication and message-based signature and encry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s “wrapped” only.  Opening breaks signature and encry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ail is either point-to-point or through a DL.  Does not support “pass-through” signing and encryp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ilds in X.509 PKIX trust mode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y something new?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68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security has different requirements. It must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optio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statel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granular: element signing and encry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lightwe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ommodate multi-hop and broadcast messag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persistent encryption and sig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 only XML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ain trust management agnos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we nee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423800"/>
            <a:ext cx="8229600" cy="651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ntity Authenticatio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one, sender, receiver, mutu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ssage Securit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ling : make it tamper-pro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: encrypt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ation : digitally sign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all of this work togeth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tocol Design Issu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round tri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Optionally) create/maintain “session” stat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private key proof-of-possess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 replay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572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XML Digital Signature  (XMLDSi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3C/IETF proposed standard (@w3.org/dsi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 at the PD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itted for .NET Runtime Beta 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XML Encryption (XMLEncryp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3C workshop scheduled Nov.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efing package (requirements + proposal) avail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ad-based inter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crosoft tools for SOAP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112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Sample toolk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NET framewor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o gibt’s </a:t>
            </a: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weiter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o’s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110960"/>
            <a:ext cx="8763120" cy="59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sdn xml worksh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6240" indent="-4651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msdn.microsoft.com/xml/default.a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sdn quick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6240" indent="-4651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microsoft.com/germany/msdn/quick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sdn TechTalk-Newsgro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6240" indent="-4651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ews://msnews.microsoft.com/microsoft.public.de.german.techtal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eveloper Men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6240" indent="-4651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develop.com/soap/default.ht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6240" indent="-4651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Very active list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.Net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6240" indent="-4651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msdn.microsoft.com/net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ragen!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2068560" y="966960"/>
            <a:ext cx="6541560" cy="5595840"/>
            <a:chOff x="2068560" y="966960"/>
            <a:chExt cx="6541560" cy="5595840"/>
          </a:xfrm>
        </p:grpSpPr>
        <p:grpSp>
          <p:nvGrpSpPr>
            <p:cNvPr id="174" name="Group 4"/>
            <p:cNvGrpSpPr/>
            <p:nvPr/>
          </p:nvGrpSpPr>
          <p:grpSpPr>
            <a:xfrm>
              <a:off x="3400200" y="2873520"/>
              <a:ext cx="1061640" cy="2009520"/>
              <a:chOff x="3400200" y="2873520"/>
              <a:chExt cx="1061640" cy="2009520"/>
            </a:xfrm>
          </p:grpSpPr>
          <p:sp>
            <p:nvSpPr>
              <p:cNvPr id="175" name="Freeform 5"/>
              <p:cNvSpPr/>
              <p:nvPr/>
            </p:nvSpPr>
            <p:spPr>
              <a:xfrm>
                <a:off x="3400200" y="2873520"/>
                <a:ext cx="723600" cy="94608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946080"/>
                  <a:gd name="textAreaBottom" fmla="*/ 946440 h 946080"/>
                </a:gdLst>
                <a:ahLst/>
                <a:rect l="textAreaLeft" t="textAreaTop" r="textAreaRight" b="textAreaBottom"/>
                <a:pathLst>
                  <a:path w="494" h="596">
                    <a:moveTo>
                      <a:pt x="0" y="320"/>
                    </a:moveTo>
                    <a:lnTo>
                      <a:pt x="29" y="174"/>
                    </a:lnTo>
                    <a:lnTo>
                      <a:pt x="116" y="73"/>
                    </a:lnTo>
                    <a:lnTo>
                      <a:pt x="209" y="14"/>
                    </a:lnTo>
                    <a:lnTo>
                      <a:pt x="327" y="0"/>
                    </a:lnTo>
                    <a:lnTo>
                      <a:pt x="443" y="80"/>
                    </a:lnTo>
                    <a:lnTo>
                      <a:pt x="494" y="160"/>
                    </a:lnTo>
                    <a:lnTo>
                      <a:pt x="494" y="218"/>
                    </a:lnTo>
                    <a:lnTo>
                      <a:pt x="464" y="255"/>
                    </a:lnTo>
                    <a:lnTo>
                      <a:pt x="327" y="290"/>
                    </a:lnTo>
                    <a:lnTo>
                      <a:pt x="283" y="298"/>
                    </a:lnTo>
                    <a:lnTo>
                      <a:pt x="312" y="414"/>
                    </a:lnTo>
                    <a:lnTo>
                      <a:pt x="414" y="458"/>
                    </a:lnTo>
                    <a:lnTo>
                      <a:pt x="457" y="530"/>
                    </a:lnTo>
                    <a:lnTo>
                      <a:pt x="406" y="588"/>
                    </a:lnTo>
                    <a:lnTo>
                      <a:pt x="203" y="596"/>
                    </a:lnTo>
                    <a:lnTo>
                      <a:pt x="108" y="524"/>
                    </a:lnTo>
                    <a:lnTo>
                      <a:pt x="29" y="393"/>
                    </a:lnTo>
                    <a:lnTo>
                      <a:pt x="14" y="284"/>
                    </a:lnTo>
                    <a:lnTo>
                      <a:pt x="14" y="261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  <p:grpSp>
            <p:nvGrpSpPr>
              <p:cNvPr id="176" name="Group 6"/>
              <p:cNvGrpSpPr/>
              <p:nvPr/>
            </p:nvGrpSpPr>
            <p:grpSpPr>
              <a:xfrm>
                <a:off x="3668040" y="3660840"/>
                <a:ext cx="793800" cy="1222200"/>
                <a:chOff x="3668040" y="3660840"/>
                <a:chExt cx="793800" cy="1222200"/>
              </a:xfrm>
            </p:grpSpPr>
            <p:sp>
              <p:nvSpPr>
                <p:cNvPr id="177" name="Freeform 7"/>
                <p:cNvSpPr/>
                <p:nvPr/>
              </p:nvSpPr>
              <p:spPr>
                <a:xfrm>
                  <a:off x="3940200" y="3660840"/>
                  <a:ext cx="521640" cy="1077840"/>
                </a:xfrm>
                <a:custGeom>
                  <a:avLst/>
                  <a:gdLst>
                    <a:gd name="textAreaLeft" fmla="*/ 0 w 521640"/>
                    <a:gd name="textAreaRight" fmla="*/ 522000 w 521640"/>
                    <a:gd name="textAreaTop" fmla="*/ 0 h 1077840"/>
                    <a:gd name="textAreaBottom" fmla="*/ 1078200 h 1077840"/>
                  </a:gdLst>
                  <a:ahLst/>
                  <a:rect l="textAreaLeft" t="textAreaTop" r="textAreaRight" b="textAreaBottom"/>
                  <a:pathLst>
                    <a:path w="356" h="679">
                      <a:moveTo>
                        <a:pt x="119" y="26"/>
                      </a:moveTo>
                      <a:lnTo>
                        <a:pt x="76" y="0"/>
                      </a:lnTo>
                      <a:lnTo>
                        <a:pt x="21" y="0"/>
                      </a:lnTo>
                      <a:lnTo>
                        <a:pt x="0" y="35"/>
                      </a:lnTo>
                      <a:lnTo>
                        <a:pt x="9" y="91"/>
                      </a:lnTo>
                      <a:lnTo>
                        <a:pt x="58" y="146"/>
                      </a:lnTo>
                      <a:lnTo>
                        <a:pt x="158" y="194"/>
                      </a:lnTo>
                      <a:lnTo>
                        <a:pt x="274" y="301"/>
                      </a:lnTo>
                      <a:lnTo>
                        <a:pt x="293" y="347"/>
                      </a:lnTo>
                      <a:lnTo>
                        <a:pt x="283" y="368"/>
                      </a:lnTo>
                      <a:lnTo>
                        <a:pt x="195" y="438"/>
                      </a:lnTo>
                      <a:lnTo>
                        <a:pt x="91" y="521"/>
                      </a:lnTo>
                      <a:lnTo>
                        <a:pt x="67" y="556"/>
                      </a:lnTo>
                      <a:lnTo>
                        <a:pt x="67" y="593"/>
                      </a:lnTo>
                      <a:lnTo>
                        <a:pt x="146" y="633"/>
                      </a:lnTo>
                      <a:lnTo>
                        <a:pt x="268" y="679"/>
                      </a:lnTo>
                      <a:lnTo>
                        <a:pt x="311" y="679"/>
                      </a:lnTo>
                      <a:lnTo>
                        <a:pt x="356" y="649"/>
                      </a:lnTo>
                      <a:lnTo>
                        <a:pt x="356" y="624"/>
                      </a:lnTo>
                      <a:lnTo>
                        <a:pt x="323" y="612"/>
                      </a:lnTo>
                      <a:lnTo>
                        <a:pt x="167" y="593"/>
                      </a:lnTo>
                      <a:lnTo>
                        <a:pt x="109" y="577"/>
                      </a:lnTo>
                      <a:lnTo>
                        <a:pt x="104" y="551"/>
                      </a:lnTo>
                      <a:lnTo>
                        <a:pt x="204" y="475"/>
                      </a:lnTo>
                      <a:lnTo>
                        <a:pt x="314" y="401"/>
                      </a:lnTo>
                      <a:lnTo>
                        <a:pt x="337" y="374"/>
                      </a:lnTo>
                      <a:lnTo>
                        <a:pt x="347" y="337"/>
                      </a:lnTo>
                      <a:lnTo>
                        <a:pt x="337" y="286"/>
                      </a:lnTo>
                      <a:lnTo>
                        <a:pt x="304" y="246"/>
                      </a:lnTo>
                      <a:lnTo>
                        <a:pt x="195" y="112"/>
                      </a:lnTo>
                      <a:lnTo>
                        <a:pt x="119" y="2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3333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8"/>
                <p:cNvSpPr/>
                <p:nvPr/>
              </p:nvSpPr>
              <p:spPr>
                <a:xfrm>
                  <a:off x="3668040" y="3805200"/>
                  <a:ext cx="517320" cy="1077840"/>
                </a:xfrm>
                <a:custGeom>
                  <a:avLst/>
                  <a:gdLst>
                    <a:gd name="textAreaLeft" fmla="*/ 0 w 517320"/>
                    <a:gd name="textAreaRight" fmla="*/ 517680 w 517320"/>
                    <a:gd name="textAreaTop" fmla="*/ 0 h 1077840"/>
                    <a:gd name="textAreaBottom" fmla="*/ 1078200 h 1077840"/>
                  </a:gdLst>
                  <a:ahLst/>
                  <a:rect l="textAreaLeft" t="textAreaTop" r="textAreaRight" b="textAreaBottom"/>
                  <a:pathLst>
                    <a:path w="353" h="679">
                      <a:moveTo>
                        <a:pt x="117" y="26"/>
                      </a:moveTo>
                      <a:lnTo>
                        <a:pt x="75" y="0"/>
                      </a:lnTo>
                      <a:lnTo>
                        <a:pt x="21" y="0"/>
                      </a:lnTo>
                      <a:lnTo>
                        <a:pt x="0" y="35"/>
                      </a:lnTo>
                      <a:lnTo>
                        <a:pt x="9" y="91"/>
                      </a:lnTo>
                      <a:lnTo>
                        <a:pt x="58" y="146"/>
                      </a:lnTo>
                      <a:lnTo>
                        <a:pt x="157" y="194"/>
                      </a:lnTo>
                      <a:lnTo>
                        <a:pt x="272" y="301"/>
                      </a:lnTo>
                      <a:lnTo>
                        <a:pt x="290" y="347"/>
                      </a:lnTo>
                      <a:lnTo>
                        <a:pt x="281" y="368"/>
                      </a:lnTo>
                      <a:lnTo>
                        <a:pt x="194" y="438"/>
                      </a:lnTo>
                      <a:lnTo>
                        <a:pt x="91" y="521"/>
                      </a:lnTo>
                      <a:lnTo>
                        <a:pt x="67" y="556"/>
                      </a:lnTo>
                      <a:lnTo>
                        <a:pt x="67" y="593"/>
                      </a:lnTo>
                      <a:lnTo>
                        <a:pt x="145" y="633"/>
                      </a:lnTo>
                      <a:lnTo>
                        <a:pt x="266" y="679"/>
                      </a:lnTo>
                      <a:lnTo>
                        <a:pt x="309" y="679"/>
                      </a:lnTo>
                      <a:lnTo>
                        <a:pt x="353" y="649"/>
                      </a:lnTo>
                      <a:lnTo>
                        <a:pt x="353" y="624"/>
                      </a:lnTo>
                      <a:lnTo>
                        <a:pt x="320" y="612"/>
                      </a:lnTo>
                      <a:lnTo>
                        <a:pt x="166" y="593"/>
                      </a:lnTo>
                      <a:lnTo>
                        <a:pt x="109" y="577"/>
                      </a:lnTo>
                      <a:lnTo>
                        <a:pt x="103" y="551"/>
                      </a:lnTo>
                      <a:lnTo>
                        <a:pt x="203" y="475"/>
                      </a:lnTo>
                      <a:lnTo>
                        <a:pt x="311" y="401"/>
                      </a:lnTo>
                      <a:lnTo>
                        <a:pt x="335" y="374"/>
                      </a:lnTo>
                      <a:lnTo>
                        <a:pt x="344" y="337"/>
                      </a:lnTo>
                      <a:lnTo>
                        <a:pt x="335" y="286"/>
                      </a:lnTo>
                      <a:lnTo>
                        <a:pt x="302" y="246"/>
                      </a:lnTo>
                      <a:lnTo>
                        <a:pt x="194" y="112"/>
                      </a:lnTo>
                      <a:lnTo>
                        <a:pt x="117" y="2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33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" name="Freeform 9"/>
            <p:cNvSpPr/>
            <p:nvPr/>
          </p:nvSpPr>
          <p:spPr>
            <a:xfrm>
              <a:off x="2206080" y="2755800"/>
              <a:ext cx="4274640" cy="3807000"/>
            </a:xfrm>
            <a:custGeom>
              <a:avLst/>
              <a:gdLst>
                <a:gd name="textAreaLeft" fmla="*/ 0 w 4274640"/>
                <a:gd name="textAreaRight" fmla="*/ 4275000 w 4274640"/>
                <a:gd name="textAreaTop" fmla="*/ 0 h 3807000"/>
                <a:gd name="textAreaBottom" fmla="*/ 3807360 h 3807000"/>
              </a:gdLst>
              <a:ahLst/>
              <a:rect l="textAreaLeft" t="textAreaTop" r="textAreaRight" b="textAreaBottom"/>
              <a:pathLst>
                <a:path w="2917" h="2398">
                  <a:moveTo>
                    <a:pt x="23" y="1693"/>
                  </a:moveTo>
                  <a:lnTo>
                    <a:pt x="15" y="1523"/>
                  </a:lnTo>
                  <a:lnTo>
                    <a:pt x="39" y="1377"/>
                  </a:lnTo>
                  <a:lnTo>
                    <a:pt x="39" y="1237"/>
                  </a:lnTo>
                  <a:lnTo>
                    <a:pt x="8" y="1067"/>
                  </a:lnTo>
                  <a:lnTo>
                    <a:pt x="0" y="936"/>
                  </a:lnTo>
                  <a:lnTo>
                    <a:pt x="8" y="797"/>
                  </a:lnTo>
                  <a:lnTo>
                    <a:pt x="39" y="712"/>
                  </a:lnTo>
                  <a:lnTo>
                    <a:pt x="125" y="650"/>
                  </a:lnTo>
                  <a:lnTo>
                    <a:pt x="233" y="572"/>
                  </a:lnTo>
                  <a:lnTo>
                    <a:pt x="489" y="487"/>
                  </a:lnTo>
                  <a:lnTo>
                    <a:pt x="745" y="426"/>
                  </a:lnTo>
                  <a:lnTo>
                    <a:pt x="970" y="387"/>
                  </a:lnTo>
                  <a:lnTo>
                    <a:pt x="1156" y="379"/>
                  </a:lnTo>
                  <a:lnTo>
                    <a:pt x="1334" y="325"/>
                  </a:lnTo>
                  <a:lnTo>
                    <a:pt x="1490" y="286"/>
                  </a:lnTo>
                  <a:lnTo>
                    <a:pt x="1566" y="256"/>
                  </a:lnTo>
                  <a:lnTo>
                    <a:pt x="1690" y="216"/>
                  </a:lnTo>
                  <a:lnTo>
                    <a:pt x="1800" y="162"/>
                  </a:lnTo>
                  <a:lnTo>
                    <a:pt x="1900" y="70"/>
                  </a:lnTo>
                  <a:lnTo>
                    <a:pt x="2016" y="38"/>
                  </a:lnTo>
                  <a:lnTo>
                    <a:pt x="2164" y="0"/>
                  </a:lnTo>
                  <a:lnTo>
                    <a:pt x="2234" y="8"/>
                  </a:lnTo>
                  <a:lnTo>
                    <a:pt x="2296" y="62"/>
                  </a:lnTo>
                  <a:lnTo>
                    <a:pt x="2481" y="216"/>
                  </a:lnTo>
                  <a:lnTo>
                    <a:pt x="2699" y="433"/>
                  </a:lnTo>
                  <a:lnTo>
                    <a:pt x="2847" y="565"/>
                  </a:lnTo>
                  <a:lnTo>
                    <a:pt x="2917" y="657"/>
                  </a:lnTo>
                  <a:lnTo>
                    <a:pt x="2917" y="719"/>
                  </a:lnTo>
                  <a:lnTo>
                    <a:pt x="2885" y="773"/>
                  </a:lnTo>
                  <a:lnTo>
                    <a:pt x="2853" y="874"/>
                  </a:lnTo>
                  <a:lnTo>
                    <a:pt x="2853" y="1129"/>
                  </a:lnTo>
                  <a:lnTo>
                    <a:pt x="2839" y="1331"/>
                  </a:lnTo>
                  <a:lnTo>
                    <a:pt x="2815" y="1477"/>
                  </a:lnTo>
                  <a:lnTo>
                    <a:pt x="2777" y="1585"/>
                  </a:lnTo>
                  <a:lnTo>
                    <a:pt x="2707" y="1609"/>
                  </a:lnTo>
                  <a:lnTo>
                    <a:pt x="2675" y="1577"/>
                  </a:lnTo>
                  <a:lnTo>
                    <a:pt x="2691" y="1523"/>
                  </a:lnTo>
                  <a:lnTo>
                    <a:pt x="2699" y="1393"/>
                  </a:lnTo>
                  <a:lnTo>
                    <a:pt x="2528" y="1469"/>
                  </a:lnTo>
                  <a:lnTo>
                    <a:pt x="2427" y="1523"/>
                  </a:lnTo>
                  <a:lnTo>
                    <a:pt x="2296" y="1555"/>
                  </a:lnTo>
                  <a:lnTo>
                    <a:pt x="2195" y="1601"/>
                  </a:lnTo>
                  <a:lnTo>
                    <a:pt x="2071" y="1686"/>
                  </a:lnTo>
                  <a:lnTo>
                    <a:pt x="1954" y="1748"/>
                  </a:lnTo>
                  <a:lnTo>
                    <a:pt x="1776" y="1833"/>
                  </a:lnTo>
                  <a:lnTo>
                    <a:pt x="1660" y="1871"/>
                  </a:lnTo>
                  <a:lnTo>
                    <a:pt x="1490" y="1949"/>
                  </a:lnTo>
                  <a:lnTo>
                    <a:pt x="1296" y="1988"/>
                  </a:lnTo>
                  <a:lnTo>
                    <a:pt x="1156" y="2027"/>
                  </a:lnTo>
                  <a:lnTo>
                    <a:pt x="1001" y="2065"/>
                  </a:lnTo>
                  <a:lnTo>
                    <a:pt x="923" y="2104"/>
                  </a:lnTo>
                  <a:lnTo>
                    <a:pt x="892" y="2181"/>
                  </a:lnTo>
                  <a:lnTo>
                    <a:pt x="885" y="2297"/>
                  </a:lnTo>
                  <a:lnTo>
                    <a:pt x="861" y="2359"/>
                  </a:lnTo>
                  <a:lnTo>
                    <a:pt x="791" y="2398"/>
                  </a:lnTo>
                  <a:lnTo>
                    <a:pt x="683" y="2336"/>
                  </a:lnTo>
                  <a:lnTo>
                    <a:pt x="651" y="2243"/>
                  </a:lnTo>
                  <a:lnTo>
                    <a:pt x="691" y="2166"/>
                  </a:lnTo>
                  <a:lnTo>
                    <a:pt x="667" y="2119"/>
                  </a:lnTo>
                  <a:lnTo>
                    <a:pt x="519" y="1957"/>
                  </a:lnTo>
                  <a:lnTo>
                    <a:pt x="311" y="1763"/>
                  </a:lnTo>
                  <a:lnTo>
                    <a:pt x="179" y="1639"/>
                  </a:lnTo>
                  <a:lnTo>
                    <a:pt x="125" y="1609"/>
                  </a:lnTo>
                  <a:lnTo>
                    <a:pt x="101" y="1663"/>
                  </a:lnTo>
                  <a:lnTo>
                    <a:pt x="125" y="1763"/>
                  </a:lnTo>
                  <a:lnTo>
                    <a:pt x="23" y="1693"/>
                  </a:lnTo>
                  <a:close/>
                </a:path>
              </a:pathLst>
            </a:custGeom>
            <a:solidFill>
              <a:srgbClr val="808080"/>
            </a:solidFill>
            <a:ln w="176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>
              <a:off x="2267280" y="3859200"/>
              <a:ext cx="4192560" cy="2691000"/>
            </a:xfrm>
            <a:custGeom>
              <a:avLst/>
              <a:gdLst>
                <a:gd name="textAreaLeft" fmla="*/ 0 w 4192560"/>
                <a:gd name="textAreaRight" fmla="*/ 4192920 w 4192560"/>
                <a:gd name="textAreaTop" fmla="*/ 0 h 2691000"/>
                <a:gd name="textAreaBottom" fmla="*/ 2691360 h 2691000"/>
              </a:gdLst>
              <a:ahLst/>
              <a:rect l="textAreaLeft" t="textAreaTop" r="textAreaRight" b="textAreaBottom"/>
              <a:pathLst>
                <a:path w="2861" h="1695">
                  <a:moveTo>
                    <a:pt x="729" y="1664"/>
                  </a:moveTo>
                  <a:lnTo>
                    <a:pt x="737" y="1502"/>
                  </a:lnTo>
                  <a:lnTo>
                    <a:pt x="729" y="1146"/>
                  </a:lnTo>
                  <a:lnTo>
                    <a:pt x="729" y="882"/>
                  </a:lnTo>
                  <a:lnTo>
                    <a:pt x="690" y="814"/>
                  </a:lnTo>
                  <a:lnTo>
                    <a:pt x="403" y="512"/>
                  </a:lnTo>
                  <a:lnTo>
                    <a:pt x="217" y="326"/>
                  </a:lnTo>
                  <a:lnTo>
                    <a:pt x="62" y="194"/>
                  </a:lnTo>
                  <a:lnTo>
                    <a:pt x="0" y="124"/>
                  </a:lnTo>
                  <a:lnTo>
                    <a:pt x="16" y="86"/>
                  </a:lnTo>
                  <a:lnTo>
                    <a:pt x="38" y="86"/>
                  </a:lnTo>
                  <a:lnTo>
                    <a:pt x="148" y="202"/>
                  </a:lnTo>
                  <a:lnTo>
                    <a:pt x="294" y="318"/>
                  </a:lnTo>
                  <a:lnTo>
                    <a:pt x="434" y="504"/>
                  </a:lnTo>
                  <a:lnTo>
                    <a:pt x="566" y="642"/>
                  </a:lnTo>
                  <a:lnTo>
                    <a:pt x="690" y="736"/>
                  </a:lnTo>
                  <a:lnTo>
                    <a:pt x="767" y="806"/>
                  </a:lnTo>
                  <a:lnTo>
                    <a:pt x="821" y="790"/>
                  </a:lnTo>
                  <a:lnTo>
                    <a:pt x="877" y="752"/>
                  </a:lnTo>
                  <a:lnTo>
                    <a:pt x="1047" y="712"/>
                  </a:lnTo>
                  <a:lnTo>
                    <a:pt x="1357" y="628"/>
                  </a:lnTo>
                  <a:lnTo>
                    <a:pt x="1543" y="526"/>
                  </a:lnTo>
                  <a:lnTo>
                    <a:pt x="1760" y="434"/>
                  </a:lnTo>
                  <a:lnTo>
                    <a:pt x="1985" y="350"/>
                  </a:lnTo>
                  <a:lnTo>
                    <a:pt x="2218" y="248"/>
                  </a:lnTo>
                  <a:lnTo>
                    <a:pt x="2380" y="194"/>
                  </a:lnTo>
                  <a:lnTo>
                    <a:pt x="2574" y="110"/>
                  </a:lnTo>
                  <a:lnTo>
                    <a:pt x="2730" y="70"/>
                  </a:lnTo>
                  <a:lnTo>
                    <a:pt x="2861" y="0"/>
                  </a:lnTo>
                  <a:lnTo>
                    <a:pt x="2815" y="124"/>
                  </a:lnTo>
                  <a:lnTo>
                    <a:pt x="2738" y="124"/>
                  </a:lnTo>
                  <a:lnTo>
                    <a:pt x="2636" y="148"/>
                  </a:lnTo>
                  <a:lnTo>
                    <a:pt x="2458" y="202"/>
                  </a:lnTo>
                  <a:lnTo>
                    <a:pt x="2326" y="256"/>
                  </a:lnTo>
                  <a:lnTo>
                    <a:pt x="2164" y="310"/>
                  </a:lnTo>
                  <a:lnTo>
                    <a:pt x="2054" y="364"/>
                  </a:lnTo>
                  <a:lnTo>
                    <a:pt x="1876" y="434"/>
                  </a:lnTo>
                  <a:lnTo>
                    <a:pt x="1760" y="434"/>
                  </a:lnTo>
                  <a:lnTo>
                    <a:pt x="1590" y="558"/>
                  </a:lnTo>
                  <a:lnTo>
                    <a:pt x="1473" y="612"/>
                  </a:lnTo>
                  <a:lnTo>
                    <a:pt x="1326" y="666"/>
                  </a:lnTo>
                  <a:lnTo>
                    <a:pt x="1139" y="728"/>
                  </a:lnTo>
                  <a:lnTo>
                    <a:pt x="993" y="766"/>
                  </a:lnTo>
                  <a:lnTo>
                    <a:pt x="891" y="814"/>
                  </a:lnTo>
                  <a:lnTo>
                    <a:pt x="799" y="860"/>
                  </a:lnTo>
                  <a:lnTo>
                    <a:pt x="775" y="984"/>
                  </a:lnTo>
                  <a:lnTo>
                    <a:pt x="775" y="1278"/>
                  </a:lnTo>
                  <a:lnTo>
                    <a:pt x="775" y="1478"/>
                  </a:lnTo>
                  <a:lnTo>
                    <a:pt x="791" y="1649"/>
                  </a:lnTo>
                  <a:lnTo>
                    <a:pt x="745" y="1695"/>
                  </a:lnTo>
                  <a:lnTo>
                    <a:pt x="729" y="166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grpSp>
          <p:nvGrpSpPr>
            <p:cNvPr id="181" name="Group 11"/>
            <p:cNvGrpSpPr/>
            <p:nvPr/>
          </p:nvGrpSpPr>
          <p:grpSpPr>
            <a:xfrm>
              <a:off x="3293280" y="2989440"/>
              <a:ext cx="2291400" cy="1533240"/>
              <a:chOff x="3293280" y="2989440"/>
              <a:chExt cx="2291400" cy="1533240"/>
            </a:xfrm>
          </p:grpSpPr>
          <p:sp>
            <p:nvSpPr>
              <p:cNvPr id="182" name="Freeform 12"/>
              <p:cNvSpPr/>
              <p:nvPr/>
            </p:nvSpPr>
            <p:spPr>
              <a:xfrm>
                <a:off x="3293280" y="3090960"/>
                <a:ext cx="521640" cy="143172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0 h 1431720"/>
                  <a:gd name="textAreaBottom" fmla="*/ 1432080 h 1431720"/>
                </a:gdLst>
                <a:ahLst/>
                <a:rect l="textAreaLeft" t="textAreaTop" r="textAreaRight" b="textAreaBottom"/>
                <a:pathLst>
                  <a:path w="356" h="902">
                    <a:moveTo>
                      <a:pt x="29" y="182"/>
                    </a:moveTo>
                    <a:lnTo>
                      <a:pt x="95" y="102"/>
                    </a:lnTo>
                    <a:lnTo>
                      <a:pt x="203" y="0"/>
                    </a:lnTo>
                    <a:lnTo>
                      <a:pt x="290" y="0"/>
                    </a:lnTo>
                    <a:lnTo>
                      <a:pt x="319" y="58"/>
                    </a:lnTo>
                    <a:lnTo>
                      <a:pt x="269" y="131"/>
                    </a:lnTo>
                    <a:lnTo>
                      <a:pt x="182" y="160"/>
                    </a:lnTo>
                    <a:lnTo>
                      <a:pt x="87" y="255"/>
                    </a:lnTo>
                    <a:lnTo>
                      <a:pt x="52" y="364"/>
                    </a:lnTo>
                    <a:lnTo>
                      <a:pt x="44" y="459"/>
                    </a:lnTo>
                    <a:lnTo>
                      <a:pt x="52" y="567"/>
                    </a:lnTo>
                    <a:lnTo>
                      <a:pt x="110" y="662"/>
                    </a:lnTo>
                    <a:lnTo>
                      <a:pt x="168" y="706"/>
                    </a:lnTo>
                    <a:lnTo>
                      <a:pt x="356" y="720"/>
                    </a:lnTo>
                    <a:lnTo>
                      <a:pt x="348" y="757"/>
                    </a:lnTo>
                    <a:lnTo>
                      <a:pt x="226" y="749"/>
                    </a:lnTo>
                    <a:lnTo>
                      <a:pt x="203" y="772"/>
                    </a:lnTo>
                    <a:lnTo>
                      <a:pt x="290" y="844"/>
                    </a:lnTo>
                    <a:lnTo>
                      <a:pt x="276" y="865"/>
                    </a:lnTo>
                    <a:lnTo>
                      <a:pt x="247" y="865"/>
                    </a:lnTo>
                    <a:lnTo>
                      <a:pt x="182" y="801"/>
                    </a:lnTo>
                    <a:lnTo>
                      <a:pt x="153" y="793"/>
                    </a:lnTo>
                    <a:lnTo>
                      <a:pt x="153" y="888"/>
                    </a:lnTo>
                    <a:lnTo>
                      <a:pt x="131" y="902"/>
                    </a:lnTo>
                    <a:lnTo>
                      <a:pt x="110" y="888"/>
                    </a:lnTo>
                    <a:lnTo>
                      <a:pt x="110" y="793"/>
                    </a:lnTo>
                    <a:lnTo>
                      <a:pt x="87" y="801"/>
                    </a:lnTo>
                    <a:lnTo>
                      <a:pt x="37" y="873"/>
                    </a:lnTo>
                    <a:lnTo>
                      <a:pt x="15" y="859"/>
                    </a:lnTo>
                    <a:lnTo>
                      <a:pt x="8" y="836"/>
                    </a:lnTo>
                    <a:lnTo>
                      <a:pt x="66" y="764"/>
                    </a:lnTo>
                    <a:lnTo>
                      <a:pt x="73" y="706"/>
                    </a:lnTo>
                    <a:lnTo>
                      <a:pt x="29" y="654"/>
                    </a:lnTo>
                    <a:lnTo>
                      <a:pt x="15" y="575"/>
                    </a:lnTo>
                    <a:lnTo>
                      <a:pt x="0" y="495"/>
                    </a:lnTo>
                    <a:lnTo>
                      <a:pt x="0" y="385"/>
                    </a:lnTo>
                    <a:lnTo>
                      <a:pt x="29" y="277"/>
                    </a:lnTo>
                    <a:lnTo>
                      <a:pt x="29" y="18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3965760" y="2989440"/>
                <a:ext cx="1618920" cy="610920"/>
              </a:xfrm>
              <a:custGeom>
                <a:avLst/>
                <a:gdLst>
                  <a:gd name="textAreaLeft" fmla="*/ 0 w 1618920"/>
                  <a:gd name="textAreaRight" fmla="*/ 1619280 w 1618920"/>
                  <a:gd name="textAreaTop" fmla="*/ 0 h 610920"/>
                  <a:gd name="textAreaBottom" fmla="*/ 611280 h 610920"/>
                </a:gdLst>
                <a:ahLst/>
                <a:rect l="textAreaLeft" t="textAreaTop" r="textAreaRight" b="textAreaBottom"/>
                <a:pathLst>
                  <a:path w="1105" h="385">
                    <a:moveTo>
                      <a:pt x="0" y="0"/>
                    </a:moveTo>
                    <a:lnTo>
                      <a:pt x="160" y="0"/>
                    </a:lnTo>
                    <a:lnTo>
                      <a:pt x="437" y="51"/>
                    </a:lnTo>
                    <a:lnTo>
                      <a:pt x="662" y="109"/>
                    </a:lnTo>
                    <a:lnTo>
                      <a:pt x="785" y="182"/>
                    </a:lnTo>
                    <a:lnTo>
                      <a:pt x="917" y="217"/>
                    </a:lnTo>
                    <a:lnTo>
                      <a:pt x="1025" y="167"/>
                    </a:lnTo>
                    <a:lnTo>
                      <a:pt x="1062" y="167"/>
                    </a:lnTo>
                    <a:lnTo>
                      <a:pt x="1062" y="188"/>
                    </a:lnTo>
                    <a:lnTo>
                      <a:pt x="975" y="240"/>
                    </a:lnTo>
                    <a:lnTo>
                      <a:pt x="981" y="261"/>
                    </a:lnTo>
                    <a:lnTo>
                      <a:pt x="1097" y="254"/>
                    </a:lnTo>
                    <a:lnTo>
                      <a:pt x="1105" y="269"/>
                    </a:lnTo>
                    <a:lnTo>
                      <a:pt x="1097" y="290"/>
                    </a:lnTo>
                    <a:lnTo>
                      <a:pt x="989" y="283"/>
                    </a:lnTo>
                    <a:lnTo>
                      <a:pt x="981" y="304"/>
                    </a:lnTo>
                    <a:lnTo>
                      <a:pt x="1025" y="356"/>
                    </a:lnTo>
                    <a:lnTo>
                      <a:pt x="1018" y="370"/>
                    </a:lnTo>
                    <a:lnTo>
                      <a:pt x="989" y="370"/>
                    </a:lnTo>
                    <a:lnTo>
                      <a:pt x="952" y="298"/>
                    </a:lnTo>
                    <a:lnTo>
                      <a:pt x="938" y="298"/>
                    </a:lnTo>
                    <a:lnTo>
                      <a:pt x="931" y="370"/>
                    </a:lnTo>
                    <a:lnTo>
                      <a:pt x="902" y="385"/>
                    </a:lnTo>
                    <a:lnTo>
                      <a:pt x="894" y="370"/>
                    </a:lnTo>
                    <a:lnTo>
                      <a:pt x="902" y="290"/>
                    </a:lnTo>
                    <a:lnTo>
                      <a:pt x="865" y="261"/>
                    </a:lnTo>
                    <a:lnTo>
                      <a:pt x="749" y="211"/>
                    </a:lnTo>
                    <a:lnTo>
                      <a:pt x="625" y="145"/>
                    </a:lnTo>
                    <a:lnTo>
                      <a:pt x="487" y="116"/>
                    </a:lnTo>
                    <a:lnTo>
                      <a:pt x="342" y="80"/>
                    </a:lnTo>
                    <a:lnTo>
                      <a:pt x="196" y="65"/>
                    </a:lnTo>
                    <a:lnTo>
                      <a:pt x="58" y="65"/>
                    </a:lnTo>
                    <a:lnTo>
                      <a:pt x="8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  <p:sp>
            <p:nvSpPr>
              <p:cNvPr id="184" name="Freeform 14"/>
              <p:cNvSpPr/>
              <p:nvPr/>
            </p:nvSpPr>
            <p:spPr>
              <a:xfrm>
                <a:off x="3879360" y="3173400"/>
                <a:ext cx="703440" cy="5652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565200"/>
                  <a:gd name="textAreaBottom" fmla="*/ 565200 h 565200"/>
                </a:gdLst>
                <a:ahLst/>
                <a:rect l="textAreaLeft" t="textAreaTop" r="textAreaRight" b="textAreaBottom"/>
                <a:pathLst>
                  <a:path w="480" h="356">
                    <a:moveTo>
                      <a:pt x="320" y="356"/>
                    </a:moveTo>
                    <a:lnTo>
                      <a:pt x="436" y="341"/>
                    </a:lnTo>
                    <a:lnTo>
                      <a:pt x="480" y="275"/>
                    </a:lnTo>
                    <a:lnTo>
                      <a:pt x="457" y="182"/>
                    </a:lnTo>
                    <a:lnTo>
                      <a:pt x="414" y="116"/>
                    </a:lnTo>
                    <a:lnTo>
                      <a:pt x="341" y="66"/>
                    </a:lnTo>
                    <a:lnTo>
                      <a:pt x="277" y="36"/>
                    </a:lnTo>
                    <a:lnTo>
                      <a:pt x="188" y="0"/>
                    </a:lnTo>
                    <a:lnTo>
                      <a:pt x="116" y="7"/>
                    </a:lnTo>
                    <a:lnTo>
                      <a:pt x="29" y="36"/>
                    </a:lnTo>
                    <a:lnTo>
                      <a:pt x="0" y="116"/>
                    </a:lnTo>
                    <a:lnTo>
                      <a:pt x="29" y="217"/>
                    </a:lnTo>
                    <a:lnTo>
                      <a:pt x="130" y="283"/>
                    </a:lnTo>
                    <a:lnTo>
                      <a:pt x="37" y="327"/>
                    </a:lnTo>
                    <a:lnTo>
                      <a:pt x="51" y="356"/>
                    </a:lnTo>
                    <a:lnTo>
                      <a:pt x="174" y="312"/>
                    </a:lnTo>
                    <a:lnTo>
                      <a:pt x="320" y="35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</p:grpSp>
        <p:sp>
          <p:nvSpPr>
            <p:cNvPr id="185" name="Freeform 15"/>
            <p:cNvSpPr/>
            <p:nvPr/>
          </p:nvSpPr>
          <p:spPr>
            <a:xfrm>
              <a:off x="4195800" y="3911760"/>
              <a:ext cx="111600" cy="33480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76" h="211">
                  <a:moveTo>
                    <a:pt x="70" y="0"/>
                  </a:moveTo>
                  <a:lnTo>
                    <a:pt x="33" y="81"/>
                  </a:lnTo>
                  <a:lnTo>
                    <a:pt x="0" y="164"/>
                  </a:lnTo>
                  <a:lnTo>
                    <a:pt x="14" y="203"/>
                  </a:lnTo>
                  <a:lnTo>
                    <a:pt x="66" y="211"/>
                  </a:lnTo>
                  <a:lnTo>
                    <a:pt x="76" y="13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6" name="Freeform 16"/>
            <p:cNvSpPr/>
            <p:nvPr/>
          </p:nvSpPr>
          <p:spPr>
            <a:xfrm>
              <a:off x="4583160" y="3865680"/>
              <a:ext cx="308880" cy="23004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11" h="145">
                  <a:moveTo>
                    <a:pt x="0" y="0"/>
                  </a:moveTo>
                  <a:lnTo>
                    <a:pt x="95" y="87"/>
                  </a:lnTo>
                  <a:lnTo>
                    <a:pt x="174" y="145"/>
                  </a:lnTo>
                  <a:lnTo>
                    <a:pt x="203" y="139"/>
                  </a:lnTo>
                  <a:lnTo>
                    <a:pt x="211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7" name="Freeform 17"/>
            <p:cNvSpPr/>
            <p:nvPr/>
          </p:nvSpPr>
          <p:spPr>
            <a:xfrm>
              <a:off x="4797000" y="3646440"/>
              <a:ext cx="297720" cy="1047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03" h="66">
                  <a:moveTo>
                    <a:pt x="0" y="0"/>
                  </a:moveTo>
                  <a:lnTo>
                    <a:pt x="116" y="58"/>
                  </a:lnTo>
                  <a:lnTo>
                    <a:pt x="197" y="66"/>
                  </a:lnTo>
                  <a:lnTo>
                    <a:pt x="203" y="43"/>
                  </a:lnTo>
                  <a:lnTo>
                    <a:pt x="18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2068560" y="1555920"/>
              <a:ext cx="1236600" cy="114444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144440"/>
                <a:gd name="textAreaBottom" fmla="*/ 1144800 h 1144440"/>
              </a:gdLst>
              <a:ahLst/>
              <a:rect l="textAreaLeft" t="textAreaTop" r="textAreaRight" b="textAreaBottom"/>
              <a:pathLst>
                <a:path w="844" h="721">
                  <a:moveTo>
                    <a:pt x="807" y="721"/>
                  </a:moveTo>
                  <a:lnTo>
                    <a:pt x="836" y="662"/>
                  </a:lnTo>
                  <a:lnTo>
                    <a:pt x="844" y="597"/>
                  </a:lnTo>
                  <a:lnTo>
                    <a:pt x="836" y="524"/>
                  </a:lnTo>
                  <a:lnTo>
                    <a:pt x="815" y="451"/>
                  </a:lnTo>
                  <a:lnTo>
                    <a:pt x="771" y="415"/>
                  </a:lnTo>
                  <a:lnTo>
                    <a:pt x="713" y="379"/>
                  </a:lnTo>
                  <a:lnTo>
                    <a:pt x="662" y="371"/>
                  </a:lnTo>
                  <a:lnTo>
                    <a:pt x="648" y="364"/>
                  </a:lnTo>
                  <a:lnTo>
                    <a:pt x="582" y="371"/>
                  </a:lnTo>
                  <a:lnTo>
                    <a:pt x="531" y="400"/>
                  </a:lnTo>
                  <a:lnTo>
                    <a:pt x="502" y="444"/>
                  </a:lnTo>
                  <a:lnTo>
                    <a:pt x="502" y="503"/>
                  </a:lnTo>
                  <a:lnTo>
                    <a:pt x="531" y="532"/>
                  </a:lnTo>
                  <a:lnTo>
                    <a:pt x="582" y="532"/>
                  </a:lnTo>
                  <a:lnTo>
                    <a:pt x="625" y="495"/>
                  </a:lnTo>
                  <a:lnTo>
                    <a:pt x="641" y="451"/>
                  </a:lnTo>
                  <a:lnTo>
                    <a:pt x="655" y="393"/>
                  </a:lnTo>
                  <a:lnTo>
                    <a:pt x="648" y="335"/>
                  </a:lnTo>
                  <a:lnTo>
                    <a:pt x="641" y="277"/>
                  </a:lnTo>
                  <a:lnTo>
                    <a:pt x="625" y="226"/>
                  </a:lnTo>
                  <a:lnTo>
                    <a:pt x="596" y="182"/>
                  </a:lnTo>
                  <a:lnTo>
                    <a:pt x="546" y="153"/>
                  </a:lnTo>
                  <a:lnTo>
                    <a:pt x="480" y="153"/>
                  </a:lnTo>
                  <a:lnTo>
                    <a:pt x="422" y="160"/>
                  </a:lnTo>
                  <a:lnTo>
                    <a:pt x="364" y="182"/>
                  </a:lnTo>
                  <a:lnTo>
                    <a:pt x="342" y="226"/>
                  </a:lnTo>
                  <a:lnTo>
                    <a:pt x="320" y="284"/>
                  </a:lnTo>
                  <a:lnTo>
                    <a:pt x="335" y="350"/>
                  </a:lnTo>
                  <a:lnTo>
                    <a:pt x="385" y="371"/>
                  </a:lnTo>
                  <a:lnTo>
                    <a:pt x="437" y="364"/>
                  </a:lnTo>
                  <a:lnTo>
                    <a:pt x="444" y="299"/>
                  </a:lnTo>
                  <a:lnTo>
                    <a:pt x="437" y="240"/>
                  </a:lnTo>
                  <a:lnTo>
                    <a:pt x="414" y="175"/>
                  </a:lnTo>
                  <a:lnTo>
                    <a:pt x="371" y="102"/>
                  </a:lnTo>
                  <a:lnTo>
                    <a:pt x="313" y="52"/>
                  </a:lnTo>
                  <a:lnTo>
                    <a:pt x="255" y="15"/>
                  </a:lnTo>
                  <a:lnTo>
                    <a:pt x="160" y="0"/>
                  </a:lnTo>
                  <a:lnTo>
                    <a:pt x="95" y="37"/>
                  </a:lnTo>
                  <a:lnTo>
                    <a:pt x="37" y="66"/>
                  </a:lnTo>
                  <a:lnTo>
                    <a:pt x="0" y="131"/>
                  </a:lnTo>
                  <a:lnTo>
                    <a:pt x="0" y="160"/>
                  </a:lnTo>
                  <a:lnTo>
                    <a:pt x="37" y="168"/>
                  </a:lnTo>
                  <a:lnTo>
                    <a:pt x="58" y="110"/>
                  </a:lnTo>
                  <a:lnTo>
                    <a:pt x="124" y="66"/>
                  </a:lnTo>
                  <a:lnTo>
                    <a:pt x="174" y="52"/>
                  </a:lnTo>
                  <a:lnTo>
                    <a:pt x="226" y="52"/>
                  </a:lnTo>
                  <a:lnTo>
                    <a:pt x="262" y="66"/>
                  </a:lnTo>
                  <a:lnTo>
                    <a:pt x="306" y="95"/>
                  </a:lnTo>
                  <a:lnTo>
                    <a:pt x="349" y="139"/>
                  </a:lnTo>
                  <a:lnTo>
                    <a:pt x="371" y="182"/>
                  </a:lnTo>
                  <a:lnTo>
                    <a:pt x="393" y="218"/>
                  </a:lnTo>
                  <a:lnTo>
                    <a:pt x="400" y="263"/>
                  </a:lnTo>
                  <a:lnTo>
                    <a:pt x="400" y="306"/>
                  </a:lnTo>
                  <a:lnTo>
                    <a:pt x="393" y="335"/>
                  </a:lnTo>
                  <a:lnTo>
                    <a:pt x="371" y="335"/>
                  </a:lnTo>
                  <a:lnTo>
                    <a:pt x="356" y="313"/>
                  </a:lnTo>
                  <a:lnTo>
                    <a:pt x="364" y="277"/>
                  </a:lnTo>
                  <a:lnTo>
                    <a:pt x="400" y="226"/>
                  </a:lnTo>
                  <a:lnTo>
                    <a:pt x="444" y="197"/>
                  </a:lnTo>
                  <a:lnTo>
                    <a:pt x="502" y="197"/>
                  </a:lnTo>
                  <a:lnTo>
                    <a:pt x="524" y="204"/>
                  </a:lnTo>
                  <a:lnTo>
                    <a:pt x="575" y="233"/>
                  </a:lnTo>
                  <a:lnTo>
                    <a:pt x="604" y="277"/>
                  </a:lnTo>
                  <a:lnTo>
                    <a:pt x="611" y="342"/>
                  </a:lnTo>
                  <a:lnTo>
                    <a:pt x="611" y="386"/>
                  </a:lnTo>
                  <a:lnTo>
                    <a:pt x="611" y="422"/>
                  </a:lnTo>
                  <a:lnTo>
                    <a:pt x="596" y="458"/>
                  </a:lnTo>
                  <a:lnTo>
                    <a:pt x="575" y="488"/>
                  </a:lnTo>
                  <a:lnTo>
                    <a:pt x="538" y="488"/>
                  </a:lnTo>
                  <a:lnTo>
                    <a:pt x="531" y="473"/>
                  </a:lnTo>
                  <a:lnTo>
                    <a:pt x="538" y="451"/>
                  </a:lnTo>
                  <a:lnTo>
                    <a:pt x="560" y="437"/>
                  </a:lnTo>
                  <a:lnTo>
                    <a:pt x="582" y="415"/>
                  </a:lnTo>
                  <a:lnTo>
                    <a:pt x="611" y="408"/>
                  </a:lnTo>
                  <a:lnTo>
                    <a:pt x="648" y="408"/>
                  </a:lnTo>
                  <a:lnTo>
                    <a:pt x="684" y="415"/>
                  </a:lnTo>
                  <a:lnTo>
                    <a:pt x="706" y="429"/>
                  </a:lnTo>
                  <a:lnTo>
                    <a:pt x="735" y="451"/>
                  </a:lnTo>
                  <a:lnTo>
                    <a:pt x="764" y="480"/>
                  </a:lnTo>
                  <a:lnTo>
                    <a:pt x="786" y="517"/>
                  </a:lnTo>
                  <a:lnTo>
                    <a:pt x="793" y="561"/>
                  </a:lnTo>
                  <a:lnTo>
                    <a:pt x="800" y="626"/>
                  </a:lnTo>
                  <a:lnTo>
                    <a:pt x="800" y="669"/>
                  </a:lnTo>
                  <a:lnTo>
                    <a:pt x="807" y="7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4213440" y="1384200"/>
              <a:ext cx="583200" cy="1143000"/>
            </a:xfrm>
            <a:custGeom>
              <a:avLst/>
              <a:gdLst>
                <a:gd name="textAreaLeft" fmla="*/ 0 w 583200"/>
                <a:gd name="textAreaRight" fmla="*/ 583200 w 583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398" h="720">
                  <a:moveTo>
                    <a:pt x="116" y="720"/>
                  </a:moveTo>
                  <a:lnTo>
                    <a:pt x="75" y="697"/>
                  </a:lnTo>
                  <a:lnTo>
                    <a:pt x="42" y="658"/>
                  </a:lnTo>
                  <a:lnTo>
                    <a:pt x="17" y="610"/>
                  </a:lnTo>
                  <a:lnTo>
                    <a:pt x="0" y="556"/>
                  </a:lnTo>
                  <a:lnTo>
                    <a:pt x="14" y="516"/>
                  </a:lnTo>
                  <a:lnTo>
                    <a:pt x="37" y="470"/>
                  </a:lnTo>
                  <a:lnTo>
                    <a:pt x="64" y="442"/>
                  </a:lnTo>
                  <a:lnTo>
                    <a:pt x="72" y="434"/>
                  </a:lnTo>
                  <a:lnTo>
                    <a:pt x="116" y="410"/>
                  </a:lnTo>
                  <a:lnTo>
                    <a:pt x="161" y="410"/>
                  </a:lnTo>
                  <a:lnTo>
                    <a:pt x="196" y="424"/>
                  </a:lnTo>
                  <a:lnTo>
                    <a:pt x="221" y="462"/>
                  </a:lnTo>
                  <a:lnTo>
                    <a:pt x="212" y="491"/>
                  </a:lnTo>
                  <a:lnTo>
                    <a:pt x="182" y="511"/>
                  </a:lnTo>
                  <a:lnTo>
                    <a:pt x="138" y="507"/>
                  </a:lnTo>
                  <a:lnTo>
                    <a:pt x="111" y="486"/>
                  </a:lnTo>
                  <a:lnTo>
                    <a:pt x="78" y="454"/>
                  </a:lnTo>
                  <a:lnTo>
                    <a:pt x="58" y="416"/>
                  </a:lnTo>
                  <a:lnTo>
                    <a:pt x="39" y="375"/>
                  </a:lnTo>
                  <a:lnTo>
                    <a:pt x="27" y="338"/>
                  </a:lnTo>
                  <a:lnTo>
                    <a:pt x="27" y="300"/>
                  </a:lnTo>
                  <a:lnTo>
                    <a:pt x="47" y="261"/>
                  </a:lnTo>
                  <a:lnTo>
                    <a:pt x="91" y="235"/>
                  </a:lnTo>
                  <a:lnTo>
                    <a:pt x="130" y="217"/>
                  </a:lnTo>
                  <a:lnTo>
                    <a:pt x="177" y="205"/>
                  </a:lnTo>
                  <a:lnTo>
                    <a:pt x="207" y="225"/>
                  </a:lnTo>
                  <a:lnTo>
                    <a:pt x="246" y="251"/>
                  </a:lnTo>
                  <a:lnTo>
                    <a:pt x="262" y="297"/>
                  </a:lnTo>
                  <a:lnTo>
                    <a:pt x="240" y="333"/>
                  </a:lnTo>
                  <a:lnTo>
                    <a:pt x="204" y="348"/>
                  </a:lnTo>
                  <a:lnTo>
                    <a:pt x="174" y="310"/>
                  </a:lnTo>
                  <a:lnTo>
                    <a:pt x="155" y="273"/>
                  </a:lnTo>
                  <a:lnTo>
                    <a:pt x="141" y="222"/>
                  </a:lnTo>
                  <a:lnTo>
                    <a:pt x="138" y="160"/>
                  </a:lnTo>
                  <a:lnTo>
                    <a:pt x="155" y="103"/>
                  </a:lnTo>
                  <a:lnTo>
                    <a:pt x="177" y="57"/>
                  </a:lnTo>
                  <a:lnTo>
                    <a:pt x="229" y="11"/>
                  </a:lnTo>
                  <a:lnTo>
                    <a:pt x="287" y="6"/>
                  </a:lnTo>
                  <a:lnTo>
                    <a:pt x="337" y="0"/>
                  </a:lnTo>
                  <a:lnTo>
                    <a:pt x="386" y="27"/>
                  </a:lnTo>
                  <a:lnTo>
                    <a:pt x="398" y="46"/>
                  </a:lnTo>
                  <a:lnTo>
                    <a:pt x="378" y="65"/>
                  </a:lnTo>
                  <a:lnTo>
                    <a:pt x="340" y="39"/>
                  </a:lnTo>
                  <a:lnTo>
                    <a:pt x="282" y="36"/>
                  </a:lnTo>
                  <a:lnTo>
                    <a:pt x="242" y="49"/>
                  </a:lnTo>
                  <a:lnTo>
                    <a:pt x="209" y="68"/>
                  </a:lnTo>
                  <a:lnTo>
                    <a:pt x="194" y="93"/>
                  </a:lnTo>
                  <a:lnTo>
                    <a:pt x="177" y="127"/>
                  </a:lnTo>
                  <a:lnTo>
                    <a:pt x="169" y="173"/>
                  </a:lnTo>
                  <a:lnTo>
                    <a:pt x="171" y="207"/>
                  </a:lnTo>
                  <a:lnTo>
                    <a:pt x="171" y="240"/>
                  </a:lnTo>
                  <a:lnTo>
                    <a:pt x="186" y="271"/>
                  </a:lnTo>
                  <a:lnTo>
                    <a:pt x="204" y="297"/>
                  </a:lnTo>
                  <a:lnTo>
                    <a:pt x="221" y="313"/>
                  </a:lnTo>
                  <a:lnTo>
                    <a:pt x="235" y="305"/>
                  </a:lnTo>
                  <a:lnTo>
                    <a:pt x="235" y="284"/>
                  </a:lnTo>
                  <a:lnTo>
                    <a:pt x="216" y="264"/>
                  </a:lnTo>
                  <a:lnTo>
                    <a:pt x="171" y="248"/>
                  </a:lnTo>
                  <a:lnTo>
                    <a:pt x="130" y="248"/>
                  </a:lnTo>
                  <a:lnTo>
                    <a:pt x="95" y="271"/>
                  </a:lnTo>
                  <a:lnTo>
                    <a:pt x="83" y="284"/>
                  </a:lnTo>
                  <a:lnTo>
                    <a:pt x="64" y="323"/>
                  </a:lnTo>
                  <a:lnTo>
                    <a:pt x="64" y="362"/>
                  </a:lnTo>
                  <a:lnTo>
                    <a:pt x="86" y="405"/>
                  </a:lnTo>
                  <a:lnTo>
                    <a:pt x="103" y="432"/>
                  </a:lnTo>
                  <a:lnTo>
                    <a:pt x="118" y="457"/>
                  </a:lnTo>
                  <a:lnTo>
                    <a:pt x="141" y="472"/>
                  </a:lnTo>
                  <a:lnTo>
                    <a:pt x="169" y="480"/>
                  </a:lnTo>
                  <a:lnTo>
                    <a:pt x="191" y="467"/>
                  </a:lnTo>
                  <a:lnTo>
                    <a:pt x="191" y="454"/>
                  </a:lnTo>
                  <a:lnTo>
                    <a:pt x="177" y="442"/>
                  </a:lnTo>
                  <a:lnTo>
                    <a:pt x="158" y="442"/>
                  </a:lnTo>
                  <a:lnTo>
                    <a:pt x="133" y="439"/>
                  </a:lnTo>
                  <a:lnTo>
                    <a:pt x="111" y="445"/>
                  </a:lnTo>
                  <a:lnTo>
                    <a:pt x="88" y="462"/>
                  </a:lnTo>
                  <a:lnTo>
                    <a:pt x="70" y="480"/>
                  </a:lnTo>
                  <a:lnTo>
                    <a:pt x="60" y="496"/>
                  </a:lnTo>
                  <a:lnTo>
                    <a:pt x="50" y="524"/>
                  </a:lnTo>
                  <a:lnTo>
                    <a:pt x="45" y="553"/>
                  </a:lnTo>
                  <a:lnTo>
                    <a:pt x="47" y="586"/>
                  </a:lnTo>
                  <a:lnTo>
                    <a:pt x="58" y="615"/>
                  </a:lnTo>
                  <a:lnTo>
                    <a:pt x="83" y="658"/>
                  </a:lnTo>
                  <a:lnTo>
                    <a:pt x="100" y="685"/>
                  </a:lnTo>
                  <a:lnTo>
                    <a:pt x="116" y="7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5416920" y="966960"/>
              <a:ext cx="3193200" cy="1780920"/>
            </a:xfrm>
            <a:prstGeom prst="cloudCallout">
              <a:avLst>
                <a:gd name="adj1" fmla="val -70560"/>
                <a:gd name="adj2" fmla="val 97324"/>
              </a:avLst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1" name="Text Box 21"/>
            <p:cNvSpPr/>
            <p:nvPr/>
          </p:nvSpPr>
          <p:spPr>
            <a:xfrm>
              <a:off x="6266160" y="1484280"/>
              <a:ext cx="142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ffffff"/>
                  </a:solidFill>
                  <a:latin typeface="Arial"/>
                </a:rPr>
                <a:t>Uff...</a:t>
              </a:r>
              <a:endParaRPr b="1" lang="en-US" sz="4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/1.1 Author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466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ff"/>
                </a:solidFill>
                <a:uFillTx/>
                <a:latin typeface="Arial"/>
                <a:hlinkClick r:id="rId1"/>
              </a:rPr>
              <a:t>Don Bo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DevelopMen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ff"/>
                </a:solidFill>
                <a:uFillTx/>
                <a:latin typeface="Arial"/>
                <a:hlinkClick r:id="rId2"/>
              </a:rPr>
              <a:t>David Ehnebusk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IB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ff"/>
                </a:solidFill>
                <a:uFillTx/>
                <a:latin typeface="Arial"/>
                <a:hlinkClick r:id="rId3"/>
              </a:rPr>
              <a:t>Gopal Kakivay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Microso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ff"/>
                </a:solidFill>
                <a:uFillTx/>
                <a:latin typeface="Arial"/>
                <a:hlinkClick r:id="rId4"/>
              </a:rPr>
              <a:t>Andrew Layma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Microso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ff"/>
                </a:solidFill>
                <a:uFillTx/>
                <a:latin typeface="Arial"/>
                <a:hlinkClick r:id="rId5"/>
              </a:rPr>
              <a:t>Noah Mendelsoh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Lot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ff"/>
                </a:solidFill>
                <a:uFillTx/>
                <a:latin typeface="Arial"/>
                <a:hlinkClick r:id="rId6"/>
              </a:rPr>
              <a:t>Henrik Frystyk Nielse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Microso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ff"/>
                </a:solidFill>
                <a:uFillTx/>
                <a:latin typeface="Arial"/>
                <a:hlinkClick r:id="rId7"/>
              </a:rPr>
              <a:t>Satish That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Microso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ff"/>
                </a:solidFill>
                <a:uFillTx/>
                <a:latin typeface="Arial"/>
                <a:hlinkClick r:id="rId8"/>
              </a:rPr>
              <a:t>Dave Win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UserLand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M:\branding\new_options\PSDs\Brand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3C Submitter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517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iba, In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rce One, In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q Computer Corpo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or, In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wlett Packard Comp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tional Business Machines Corpo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ONA Technolo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tus Development Corpo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soft Corpo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P A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Land Software In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 Outside Microsof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54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is being developed very much in Web styl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distributed community with broad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ailable Implemen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ff"/>
                </a:solidFill>
                <a:uFillTx/>
                <a:latin typeface="Arial"/>
                <a:hlinkClick r:id="rId1"/>
              </a:rPr>
              <a:t>Apache SOA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started by IB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or </a:t>
            </a:r>
            <a:r>
              <a:rPr b="1" lang="en-US" sz="2800" spc="-1" strike="noStrike" u="sng">
                <a:solidFill>
                  <a:srgbClr val="9966ff"/>
                </a:solidFill>
                <a:uFillTx/>
                <a:latin typeface="Arial"/>
                <a:hlinkClick r:id="rId2"/>
              </a:rPr>
              <a:t>SOAP toolkits in Perl and J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ff"/>
                </a:solidFill>
                <a:uFillTx/>
                <a:latin typeface="Arial"/>
                <a:hlinkClick r:id="rId3"/>
              </a:rPr>
              <a:t>SOAP::l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Per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bwww based SOA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O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is SOAP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542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is a simple, lightweight XML protocol for exchanging structured and typed information on the We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all design goal: KI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implemented in a week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ck to absolutely minimum of functiona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it Modular and Extensi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application semantics and no transport seman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 “Web based datagram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's Four Parts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54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extensible envelope express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mandator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eatures and services are represented in a message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hould deal with them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th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y are optional or mandatory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et of encoding rules for dat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optiona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hange instances of application-defined data types and directed graph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form model for serializing non-syntactic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vention for representation RPC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optiona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286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to make calls and respon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rotocol binding to HTTP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optiona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520560" y="2502000"/>
            <a:ext cx="8077320" cy="4038480"/>
            <a:chOff x="520560" y="2502000"/>
            <a:chExt cx="8077320" cy="4038480"/>
          </a:xfrm>
        </p:grpSpPr>
        <p:sp>
          <p:nvSpPr>
            <p:cNvPr id="66" name="Rectangle 3"/>
            <p:cNvSpPr/>
            <p:nvPr/>
          </p:nvSpPr>
          <p:spPr>
            <a:xfrm>
              <a:off x="520560" y="2882880"/>
              <a:ext cx="8077320" cy="3657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67" name="Text Box 4"/>
            <p:cNvSpPr/>
            <p:nvPr/>
          </p:nvSpPr>
          <p:spPr>
            <a:xfrm>
              <a:off x="4966200" y="250200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ahoma"/>
                </a:rPr>
                <a:t>SOAP Envelope</a:t>
              </a: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AP Example in HTTP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520560" y="1206360"/>
            <a:ext cx="6725520" cy="1524240"/>
            <a:chOff x="520560" y="1206360"/>
            <a:chExt cx="6725520" cy="1524240"/>
          </a:xfrm>
        </p:grpSpPr>
        <p:sp>
          <p:nvSpPr>
            <p:cNvPr id="70" name="Rectangle 7"/>
            <p:cNvSpPr/>
            <p:nvPr/>
          </p:nvSpPr>
          <p:spPr>
            <a:xfrm>
              <a:off x="520560" y="1206360"/>
              <a:ext cx="4191120" cy="15242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4969800" y="1473120"/>
              <a:ext cx="22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ff"/>
                  </a:solidFill>
                  <a:latin typeface="Tahoma"/>
                </a:rPr>
                <a:t>HTTP Request</a:t>
              </a: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grpSp>
        <p:nvGrpSpPr>
          <p:cNvPr id="72" name="Group 9"/>
          <p:cNvGrpSpPr/>
          <p:nvPr/>
        </p:nvGrpSpPr>
        <p:grpSpPr>
          <a:xfrm>
            <a:off x="520560" y="1130400"/>
            <a:ext cx="7591320" cy="1600200"/>
            <a:chOff x="520560" y="1130400"/>
            <a:chExt cx="7591320" cy="1600200"/>
          </a:xfrm>
        </p:grpSpPr>
        <p:sp>
          <p:nvSpPr>
            <p:cNvPr id="73" name="Rectangle 10"/>
            <p:cNvSpPr/>
            <p:nvPr/>
          </p:nvSpPr>
          <p:spPr>
            <a:xfrm>
              <a:off x="520560" y="2120760"/>
              <a:ext cx="4191120" cy="609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74" name="Text Box 11"/>
            <p:cNvSpPr/>
            <p:nvPr/>
          </p:nvSpPr>
          <p:spPr>
            <a:xfrm>
              <a:off x="4986720" y="1130400"/>
              <a:ext cx="31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ahoma"/>
                </a:rPr>
                <a:t>SOAP-HTTP Binding</a:t>
              </a: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520560" y="2158920"/>
            <a:ext cx="8077320" cy="2629080"/>
            <a:chOff x="520560" y="2158920"/>
            <a:chExt cx="8077320" cy="2629080"/>
          </a:xfrm>
        </p:grpSpPr>
        <p:sp>
          <p:nvSpPr>
            <p:cNvPr id="76" name="Rectangle 13"/>
            <p:cNvSpPr/>
            <p:nvPr/>
          </p:nvSpPr>
          <p:spPr>
            <a:xfrm>
              <a:off x="520560" y="3492360"/>
              <a:ext cx="8077320" cy="129564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4955040" y="215892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ff"/>
                  </a:solidFill>
                  <a:latin typeface="Tahoma"/>
                </a:rPr>
                <a:t>SOAP Header</a:t>
              </a: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78" name="Rectangle 15"/>
            <p:cNvSpPr/>
            <p:nvPr/>
          </p:nvSpPr>
          <p:spPr>
            <a:xfrm>
              <a:off x="520560" y="3720960"/>
              <a:ext cx="8077320" cy="838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grpSp>
        <p:nvGrpSpPr>
          <p:cNvPr id="79" name="Group 16"/>
          <p:cNvGrpSpPr/>
          <p:nvPr/>
        </p:nvGrpSpPr>
        <p:grpSpPr>
          <a:xfrm>
            <a:off x="533520" y="1828800"/>
            <a:ext cx="8076960" cy="4406760"/>
            <a:chOff x="533520" y="1828800"/>
            <a:chExt cx="8076960" cy="4406760"/>
          </a:xfrm>
        </p:grpSpPr>
        <p:sp>
          <p:nvSpPr>
            <p:cNvPr id="80" name="Text Box 17"/>
            <p:cNvSpPr/>
            <p:nvPr/>
          </p:nvSpPr>
          <p:spPr>
            <a:xfrm>
              <a:off x="4974840" y="182880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SOAP Body</a:t>
              </a: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grpSp>
          <p:nvGrpSpPr>
            <p:cNvPr id="81" name="Group 18"/>
            <p:cNvGrpSpPr/>
            <p:nvPr/>
          </p:nvGrpSpPr>
          <p:grpSpPr>
            <a:xfrm>
              <a:off x="533520" y="4863960"/>
              <a:ext cx="8076960" cy="1371600"/>
              <a:chOff x="533520" y="4863960"/>
              <a:chExt cx="8076960" cy="1371600"/>
            </a:xfrm>
          </p:grpSpPr>
          <p:sp>
            <p:nvSpPr>
              <p:cNvPr id="82" name="Rectangle 19"/>
              <p:cNvSpPr/>
              <p:nvPr/>
            </p:nvSpPr>
            <p:spPr>
              <a:xfrm>
                <a:off x="533520" y="4863960"/>
                <a:ext cx="8076960" cy="137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  <p:sp>
            <p:nvSpPr>
              <p:cNvPr id="83" name="Rectangle 20"/>
              <p:cNvSpPr/>
              <p:nvPr/>
            </p:nvSpPr>
            <p:spPr>
              <a:xfrm>
                <a:off x="533520" y="5092560"/>
                <a:ext cx="8076960" cy="838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</p:grpSp>
      </p:grpSp>
      <p:sp>
        <p:nvSpPr>
          <p:cNvPr id="84" name="Rectangle 21"/>
          <p:cNvSpPr/>
          <p:nvPr/>
        </p:nvSpPr>
        <p:spPr>
          <a:xfrm>
            <a:off x="520560" y="1230480"/>
            <a:ext cx="8077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POST /Accounts/Henrik HTTP/1.1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Host: www.webservicebank.co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Content-Length: nnn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Content-Type: text/xml; charset="utf-8"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SOAPAction: "Some-URI"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&lt;SOAP:Envelope xmlns:SOAP="http://schemas.xmlsoap.org/soap/envelope/"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SOAP:encodingStyle="http://schemas.xmlsoap.org/soap/encoding/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 &lt;SOAP:Header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     &lt;t:Transaction xmlns:t="some-URI" SOAP:mustUnderstand="1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             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     &lt;/t:Transaction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 &lt;/SOAP:Header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 &lt;SOAP:Body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     &lt;m:Deposit xmlns:m="Some-URI"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         &lt;m:amount&gt;200&lt;/m:amount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     &lt;/m:Deposit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   &lt;/SOAP:Body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&lt;/SOAP:Envelope&gt;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3:26:10Z</dcterms:created>
  <dc:creator>frankman</dc:creator>
  <dc:description/>
  <dc:language>en-US</dc:language>
  <cp:lastModifiedBy>Florin_Boian</cp:lastModifiedBy>
  <cp:lastPrinted>1999-03-05T09:57:45Z</cp:lastPrinted>
  <dcterms:modified xsi:type="dcterms:W3CDTF">2009-11-16T13:28:51Z</dcterms:modified>
  <cp:revision>9</cp:revision>
  <dc:subject>PPT-Template</dc:subject>
  <dc:title>PowerPoint Presentation</dc:title>
</cp:coreProperties>
</file>