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D9D7-2216-4DB9-8AF6-A0B33C947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113C-ADF5-4B9C-8888-4D4AF8DE0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A4C-5F94-40D3-9B7F-4BE28C63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2A0-8DB1-4B4C-AC04-496CD2B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E06-5234-48E3-921E-670F9768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E07-B2D6-468B-B073-652C34D2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970-32FF-4C60-9285-D6BE7720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402-0908-4D4C-B0C9-564A6830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8E8-FF0C-47E2-8615-85A173F6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AF-C67B-461E-A59D-1633A87F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4C8-C152-4466-A91B-DD5A6A03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55E-37B9-48A1-8C5E-82272F4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27A-DCB9-48CA-8535-DB084B8C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0C8-8525-4112-A9BD-710811C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4BD5-B9C5-4B79-BEF5-FF8568F06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D5C-94B7-40C4-9C0C-219E979A6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:/Florin/Carti/SWMPA/WebServices/ExempleDeClientiLaServiciiStandard/clientiUSersGateway/docClientUsersGateway/UsersGateway/ro/ubbcluj/cs/user/servXmlRpc/UsersGateway.html#authenticateUser(java.lang.String, java.lang.String, java.lang.String)" TargetMode="External"/><Relationship Id="rId2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Ani(java.lang.String, java.lang.String, java.lang.String)" TargetMode="External"/><Relationship Id="rId3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Catedre(java.lang.String, java.lang.String, java.lang.String)" TargetMode="External"/><Relationship Id="rId4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Grupe(java.lang.String, java.lang.String, java.lang.String)" TargetMode="External"/><Relationship Id="rId5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Hosturi(java.lang.String, java.lang.String, java.lang.String)" TargetMode="External"/><Relationship Id="rId6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Specializari(java.lang.String, java.lang.String, java.lang.String)" TargetMode="External"/><Relationship Id="rId7" Type="http://schemas.openxmlformats.org/officeDocument/2006/relationships/hyperlink" Target="file:///D:/Florin/Carti/SWMPA/WebServices/ExempleDeClientiLaServiciiStandard/clientiUSersGateway/docClientUsersGateway/UsersGateway/ro/ubbcluj/cs/user/servXmlRpc/UsersGateway.html#getAllUseri(java.lang.String, java.lang.String, java.lang.String)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acy distributed comp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MQComm.jpg"/>
          <p:cNvPicPr/>
          <p:nvPr/>
        </p:nvPicPr>
        <p:blipFill>
          <a:blip r:embed="rId1"/>
          <a:stretch/>
        </p:blipFill>
        <p:spPr>
          <a:xfrm>
            <a:off x="228600" y="4800600"/>
            <a:ext cx="838692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tubSkel.jpg"/>
          <p:cNvPicPr/>
          <p:nvPr/>
        </p:nvPicPr>
        <p:blipFill>
          <a:blip r:embed="rId2"/>
          <a:stretch/>
        </p:blipFill>
        <p:spPr>
          <a:xfrm>
            <a:off x="228600" y="2133720"/>
            <a:ext cx="830736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590920" y="4191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Queue (e.g. J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75248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es (Stub, Skeleton) (e.g. ONCRPC, RMI, 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"/>
          <p:cNvGraphicFramePr/>
          <p:nvPr/>
        </p:nvGraphicFramePr>
        <p:xfrm>
          <a:off x="304920" y="838080"/>
          <a:ext cx="86151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15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1: earth (RE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80880" y="9144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mport http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 = httplib.HTTPConnection("www.earthtools.org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request("GET", "/timezone/46.75/23.58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s = conn.getrespon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status, res.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rea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 = httplib.HTTPConnection("www.earthtools.org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request("GET", "/sun/46.75/23.58/31/3/2/0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s = conn.getrespon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status, res.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int res.rea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2: google search (SOAP)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04920" y="838080"/>
            <a:ext cx="8458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?xml version='1.0' encoding='UTF-8'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oap11:Envelopesearch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mlns="urn:GoogleSearc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mlns:soap11="http://schemas.xmlsoap.org/soap/envelope/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oap11: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oGoogleSearc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key&gt;4B0KufpQFHJxhAxzua0tR11ElLNrHRJ6&lt;/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q&gt;rares boian&lt;/q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tart&gt;0&lt;/st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maxResults&gt;10&lt;/maxResul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ilter&gt;true&lt;/fil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restrict&gt;&lt;/restri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safeSearch&gt;false&lt;/safeSearc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r&gt;&lt;/l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e&gt;latin1&lt;/i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oe&gt;latin1&lt;/o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oGoogleSearc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soap11: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soap11:Envelo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ent2: google search (SOAP) java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64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m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class GoogleClie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static void main(String[] args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ring wsdl = "http://api.google.com/GoogleSearch.wsdl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RL url = new URL(wsd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QName serviceName = new QName("urn:GoogleSearch", "GoogleSearchServic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QName portName = new QName("urn:GoogleSearch", "GoogleSearchPort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rvice service = Service.create(url, servic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spatch dispatch = service.createDispatch(por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Message.class, Service.Mode.MESS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essageFactory mf = MessageFactory.newInstan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Message req = mf.createMessage(null, new FileInputStream(args[0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Message res = (SOAPMessage)dispatch.invoke(req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s.writeTo(System.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3: UsersGate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685800"/>
          <a:ext cx="8686800" cy="57913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3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authenticateUser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Autentifica p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utilizatorul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cu parola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word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getAllAn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anii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getAllCatedre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catedre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getAllGrupe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grupe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getAllHostur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hosturi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getAllSpecializar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ate specializarile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getAllUseri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Intoarce toti userii in format CSV (Comma Separator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5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etUsers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, String filtru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Lista utilizatorilor care satisfac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tru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solicitata d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 parola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word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de p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58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ndMail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ring user, String password, String host, String filtru, String subject, String mesaj)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Utilizatorilor care satisfac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tru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li se transmit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aj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cu subiectul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jec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de catr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 parola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word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de pe </a:t>
                      </a:r>
                      <a:r>
                        <a:rPr b="0" i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tocol: Http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Comm.jpg"/>
          <p:cNvPicPr/>
          <p:nvPr/>
        </p:nvPicPr>
        <p:blipFill>
          <a:blip r:embed="rId1"/>
          <a:stretch/>
        </p:blipFill>
        <p:spPr>
          <a:xfrm>
            <a:off x="1447920" y="1600200"/>
            <a:ext cx="5735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tocol: SOAP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SOAPComm.jpg"/>
          <p:cNvPicPr/>
          <p:nvPr/>
        </p:nvPicPr>
        <p:blipFill>
          <a:blip r:embed="rId1"/>
          <a:stretch/>
        </p:blipFill>
        <p:spPr>
          <a:xfrm>
            <a:off x="762120" y="1371600"/>
            <a:ext cx="767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AP data conver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SOAPDataConversion.jpg"/>
          <p:cNvPicPr/>
          <p:nvPr/>
        </p:nvPicPr>
        <p:blipFill>
          <a:blip r:embed="rId1"/>
          <a:stretch/>
        </p:blipFill>
        <p:spPr>
          <a:xfrm>
            <a:off x="0" y="2057400"/>
            <a:ext cx="893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DL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WSDLElements.jpg"/>
          <p:cNvPicPr/>
          <p:nvPr/>
        </p:nvPicPr>
        <p:blipFill>
          <a:blip r:embed="rId1"/>
          <a:stretch/>
        </p:blipFill>
        <p:spPr>
          <a:xfrm>
            <a:off x="228600" y="2209680"/>
            <a:ext cx="86263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DL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WSDLOperations.jpg"/>
          <p:cNvPicPr/>
          <p:nvPr/>
        </p:nvPicPr>
        <p:blipFill>
          <a:blip r:embed="rId1"/>
          <a:stretch/>
        </p:blipFill>
        <p:spPr>
          <a:xfrm>
            <a:off x="1981080" y="758880"/>
            <a:ext cx="5867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c Web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WS0.jpg"/>
          <p:cNvPicPr/>
          <p:nvPr/>
        </p:nvPicPr>
        <p:blipFill>
          <a:blip r:embed="rId1"/>
          <a:stretch/>
        </p:blipFill>
        <p:spPr>
          <a:xfrm>
            <a:off x="152280" y="1143000"/>
            <a:ext cx="855828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ttpTrans.jpg"/>
          <p:cNvPicPr/>
          <p:nvPr/>
        </p:nvPicPr>
        <p:blipFill>
          <a:blip r:embed="rId2"/>
          <a:stretch/>
        </p:blipFill>
        <p:spPr>
          <a:xfrm>
            <a:off x="304920" y="4038480"/>
            <a:ext cx="8529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198108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DL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WSDL_example.jpg"/>
          <p:cNvPicPr/>
          <p:nvPr/>
        </p:nvPicPr>
        <p:blipFill>
          <a:blip r:embed="rId1"/>
          <a:stretch/>
        </p:blipFill>
        <p:spPr>
          <a:xfrm>
            <a:off x="2057400" y="152280"/>
            <a:ext cx="70866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classic web (multi companies fusion in a corpo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lassicWeb.jpg"/>
          <p:cNvPicPr/>
          <p:nvPr/>
        </p:nvPicPr>
        <p:blipFill>
          <a:blip r:embed="rId1"/>
          <a:stretch/>
        </p:blipFill>
        <p:spPr>
          <a:xfrm>
            <a:off x="2895480" y="1392120"/>
            <a:ext cx="4343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using web service(multi companies fusion in a corpo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WSWeb.jpg"/>
          <p:cNvPicPr/>
          <p:nvPr/>
        </p:nvPicPr>
        <p:blipFill>
          <a:blip r:embed="rId1"/>
          <a:stretch/>
        </p:blipFill>
        <p:spPr>
          <a:xfrm>
            <a:off x="2871720" y="1405080"/>
            <a:ext cx="45799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WS1.jpg"/>
          <p:cNvPicPr/>
          <p:nvPr/>
        </p:nvPicPr>
        <p:blipFill>
          <a:blip r:embed="rId1"/>
          <a:stretch/>
        </p:blipFill>
        <p:spPr>
          <a:xfrm>
            <a:off x="1676520" y="129528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 components and protoc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"/>
          <p:cNvGraphicFramePr/>
          <p:nvPr/>
        </p:nvGraphicFramePr>
        <p:xfrm>
          <a:off x="1069920" y="914400"/>
          <a:ext cx="6702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914400"/>
                    <a:ext cx="6702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295280" y="2666880"/>
          <a:ext cx="6553440" cy="389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666880"/>
                    <a:ext cx="65534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 platforms and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OAP+WSDL[+UDDI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XMLRPC (no WSDL, no UD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ful web services (no WSDL, UD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52520" y="1523520"/>
            <a:ext cx="40388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(AXIS, CORBA_IDL, EJB3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# + ASP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th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8"/>
          <p:cNvCxnSpPr/>
          <p:nvPr/>
        </p:nvCxnSpPr>
        <p:spPr>
          <a:xfrm flipV="1">
            <a:off x="3657600" y="1828440"/>
            <a:ext cx="1296000" cy="381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9"/>
          <p:cNvCxnSpPr/>
          <p:nvPr/>
        </p:nvCxnSpPr>
        <p:spPr>
          <a:xfrm flipV="1">
            <a:off x="3276720" y="1904760"/>
            <a:ext cx="1753200" cy="1372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4" name="Straight Arrow Connector 10"/>
          <p:cNvCxnSpPr/>
          <p:nvPr/>
        </p:nvCxnSpPr>
        <p:spPr>
          <a:xfrm>
            <a:off x="3657600" y="2362320"/>
            <a:ext cx="1372320" cy="381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11"/>
          <p:cNvCxnSpPr/>
          <p:nvPr/>
        </p:nvCxnSpPr>
        <p:spPr>
          <a:xfrm>
            <a:off x="3657600" y="2514240"/>
            <a:ext cx="137232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>
            <a:off x="3657600" y="2666880"/>
            <a:ext cx="1372320" cy="1067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19"/>
          <p:cNvCxnSpPr/>
          <p:nvPr/>
        </p:nvCxnSpPr>
        <p:spPr>
          <a:xfrm flipV="1">
            <a:off x="3352320" y="2818800"/>
            <a:ext cx="1677240" cy="5338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8" name="Straight Arrow Connector 20"/>
          <p:cNvCxnSpPr/>
          <p:nvPr/>
        </p:nvCxnSpPr>
        <p:spPr>
          <a:xfrm flipV="1">
            <a:off x="3352320" y="3352320"/>
            <a:ext cx="1677240" cy="153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9" name="Straight Arrow Connector 21"/>
          <p:cNvCxnSpPr/>
          <p:nvPr/>
        </p:nvCxnSpPr>
        <p:spPr>
          <a:xfrm>
            <a:off x="3352320" y="3657600"/>
            <a:ext cx="1677240" cy="1548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0" name="Straight Arrow Connector 13"/>
          <p:cNvCxnSpPr/>
          <p:nvPr/>
        </p:nvCxnSpPr>
        <p:spPr>
          <a:xfrm flipV="1">
            <a:off x="3351600" y="2057400"/>
            <a:ext cx="1600920" cy="266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Straight Arrow Connector 15"/>
          <p:cNvCxnSpPr/>
          <p:nvPr/>
        </p:nvCxnSpPr>
        <p:spPr>
          <a:xfrm flipV="1">
            <a:off x="3504240" y="2895120"/>
            <a:ext cx="152460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Straight Arrow Connector 16"/>
          <p:cNvCxnSpPr/>
          <p:nvPr/>
        </p:nvCxnSpPr>
        <p:spPr>
          <a:xfrm flipV="1">
            <a:off x="3657600" y="3428640"/>
            <a:ext cx="137232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Straight Arrow Connector 17"/>
          <p:cNvCxnSpPr/>
          <p:nvPr/>
        </p:nvCxnSpPr>
        <p:spPr>
          <a:xfrm flipV="1">
            <a:off x="3657600" y="3809160"/>
            <a:ext cx="137232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A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OA.jpg"/>
          <p:cNvPicPr/>
          <p:nvPr/>
        </p:nvPicPr>
        <p:blipFill>
          <a:blip r:embed="rId1"/>
          <a:stretch/>
        </p:blipFill>
        <p:spPr>
          <a:xfrm>
            <a:off x="0" y="1905120"/>
            <a:ext cx="6172200" cy="335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WebservicesSOA.png"/>
          <p:cNvPicPr/>
          <p:nvPr/>
        </p:nvPicPr>
        <p:blipFill>
          <a:blip r:embed="rId2"/>
          <a:stretch/>
        </p:blipFill>
        <p:spPr>
          <a:xfrm>
            <a:off x="5753160" y="3778200"/>
            <a:ext cx="3390840" cy="307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WSDLBasis.jpg"/>
          <p:cNvPicPr/>
          <p:nvPr/>
        </p:nvPicPr>
        <p:blipFill>
          <a:blip r:embed="rId3"/>
          <a:stretch/>
        </p:blipFill>
        <p:spPr>
          <a:xfrm>
            <a:off x="5772240" y="609480"/>
            <a:ext cx="33717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example: Java service vs. VB cl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WSJavaClientWSVB.jpg"/>
          <p:cNvPicPr/>
          <p:nvPr/>
        </p:nvPicPr>
        <p:blipFill>
          <a:blip r:embed="rId1"/>
          <a:stretch/>
        </p:blipFill>
        <p:spPr>
          <a:xfrm>
            <a:off x="1981080" y="1127160"/>
            <a:ext cx="48769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41:33Z</dcterms:created>
  <dc:creator>florin</dc:creator>
  <dc:description/>
  <dc:language>en-US</dc:language>
  <cp:lastModifiedBy>florin</cp:lastModifiedBy>
  <dcterms:modified xsi:type="dcterms:W3CDTF">2011-03-16T15:14:34Z</dcterms:modified>
  <cp:revision>34</cp:revision>
  <dc:subject/>
  <dc:title>Classic Web access</dc:title>
</cp:coreProperties>
</file>