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D923C-6CBE-4F97-8821-41A46EBA46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B5019-6207-4351-99AA-74E49CEA98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09BC9-7DE5-42FC-BFBF-9744F22B0A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54D14-D45C-458C-8BF4-8CA697AEBC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5CE32-66BB-476D-9E96-0460907079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05AF4-26C9-4292-BCE4-7822BF8733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2CD03-55E7-4CC8-95C6-E2A0F5D632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DAC82-A102-442E-8563-4E32F1CF23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7B62B-B689-4490-B638-6614170DC7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9497B-D921-467F-8291-D27BFF868F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32C86-F7C4-4093-B37E-9A4D7F4038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6EF35-86CD-40C9-A066-D4E98093BD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2D37E-9DD8-4A08-B1A0-0EFDD5EB80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C7480-9737-426C-9484-759B442E3A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E7FBF-F0FC-4EBD-BEA9-D2B979F362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9DE2D-8C6E-4D00-A096-6F385F7C6A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998D2-D00C-42F3-946C-F18B9199CB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3EBA2-23E5-4012-B19F-2EDB8D6927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1F4E7-B614-4AB6-9EB6-51AFEE9760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9BE68-F9BC-4423-8288-1AD51FA7BB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AE889-A77F-4FA3-9511-F5CDB8E018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6DAB4-E439-464E-962A-ABE5009F83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69D34-D706-45A7-8712-8E1B8E32E2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C2DED-F9EA-444A-8782-E37ADEAE36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1138D-05DF-4F1F-B8A3-35B1A85402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B4C6B-A233-4892-A15C-388FDC0EDF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15120-0A22-4D13-8BAC-F5C8AC4DFD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7ED88-C10F-4DEA-933D-A9A6B5F33D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46202-B375-4E1B-A0BC-36091BD972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06F44-7159-4527-A689-D6D26F8B80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95132-3C67-409B-BFA3-6DCF737DE6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CAB6D-4B43-439D-814B-92F38EC254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53E73-B47B-4E3E-A185-826D6BFBF2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5E33C-0192-46C3-95C9-6ECA6A6F88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4A54A-3DB3-429F-937D-025832A744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3F66A-A8D5-4F86-9617-2A6A3337B7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9A21F-72A1-48CF-9414-BE9DCACA99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51951-9F42-4996-BB34-CFF13806FC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00351-6AE6-47A0-B541-FE3CD5149C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B4646-E68E-4B04-BED7-0747522909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CF726-9285-472B-9445-C907CC1B4C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68F76-C0EB-4318-A8AC-1128E1C772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63655-E0A8-419F-AC65-D70C3AEF28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3DA06-1CFC-4014-B17F-B4295BD99D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651D4-2481-4583-B6F1-026736A719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C2B0A-9608-460A-B00D-03642ECCD4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75D8B-4831-477A-B61E-A920BA1333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C44-5EBC-403A-99D8-EDF8C477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0C2-04B5-420A-A0A4-4FE31057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FAD-18F0-458D-B8C5-D2DFE19B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E63-18F1-4CC1-9F62-5ACE5EE6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100-CF25-48B4-94A5-D944E48C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366-C700-4F43-A916-633B031E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F75-417F-49BB-93E5-2843FF0D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F18-9AF2-4EA8-98CA-92177E14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8E1C-4EC3-4263-B434-AB89DE94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084-66E6-41CC-8F33-E188F3B0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A65-11A1-43D0-95D2-6E053316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235-EAC3-4185-9C01-47BD2DA1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52C15-0F6F-4BA4-9AA3-C51D32B382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ucho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caucho.com/hessian/test/basic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rcus and Hess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 Fergu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-Founder and Chief Archit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ucho Technology,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cauch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ava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use Java IDEs with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d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f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p analyz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P as presentation layer for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sentation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ex.php calling Java extension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r, avoids complicated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vax.script from Java to PHP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lready have framework, use as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P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 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t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rge set of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ava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enance (ty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(depe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rvices/Liste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ing (jU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terns, packaging, .j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P Custo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dely know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itable for casua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mplates,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Dru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s learning new customizati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P languag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ays (ordered HashM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al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ing interpolation and multiline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ray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-class support for ordered 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$foo = array('a'=&gt;'data-a', 'b'=&gt;'data-b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$foo['c'] = 'data-c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 PHP data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rge librar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braries can assume array as retur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DO – Databas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turns associativ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while ($row = $rs-&gt;fetc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89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ast with JD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s and 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 Reduce number of data structures a programmer needs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 Libraries can use and return arrays, i.e. assumed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 PHP can concentrate on array libraries and languag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yping and mainten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lack of typing self-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.e. PHP useful in some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r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ucho's cleanroom implementation of PHP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P 4 language features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P 5 features mostly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P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polation (“$n object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line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d for binary and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fies APIs, e.g. Encrypt or file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causes confusion for uni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al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aluates a string as PHP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ful for frameworks and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ful and dang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aknesses of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sto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 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tecode Comp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ercus compiles PHP to 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vac compiles to .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JIT compiles to machin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of PHP Comp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unction fo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$a = “hello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turn hello_world($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Value fun_foo(Env en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rows Throw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Value v_a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nv.checkTimeou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v_a =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quercus_value_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turn HelloModule.hello_world(env, v_a.toValue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ercus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1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oming requests to PHP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P calls Java application fac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e implementatio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MysqliModule extends AbstractQuercusModu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Mysqli mysqli_connect(Env env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@Optional(“localhost”) String hos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@Optional String userNa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@Optional String pass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turn new Mysqli(env, host, userName, passwor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llo, world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HelloModule extends AbstractQuercusModu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String hello_world(String m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turn “hello, “ + ms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jar pack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-INF/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.caucho.quercus.Quercus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6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example.Hello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7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op in .jar, get new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ava AP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JMS, JNDI, EJ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osing Java API vs fac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pplication, e.g. Session beans, Java API probably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JMS, PHP-style facad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housekeeping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fy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brary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re libraries (string, regexp, array, mysql, etc)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 of others prog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iki.caucho.com/PHP_implemenation_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fac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$bean = jndi_lookup(“persistence/PersistenceUnit/test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$jms = new JmsQueue(“jms/test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$jms-&gt;send(“hello, worl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pplication Fac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ication model written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Unit, etc. for Jav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ercus facade for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P calls to facade or jndi_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avax.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va API standard in JDK 1.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s applications call Quercus from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for PHP customization of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for presentation pages of J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in next release of Re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ss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ct, binary RPC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languag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grated with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net C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ended from XML-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ion to complexity of SO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rlap – XML based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ssian – binary protocol based on Bur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nges from XML-R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onal 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ursiv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TF-8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-bit b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ava Client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tring url = “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http://www.caucho.com/hessian/test/basic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ssianProxyFactory factory = new HessianProxyFactor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asic basic = (Basic) factory.create(Basic.class, 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“hello(): “ + basic.hello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ava Server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Basic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xtends HessianServ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mplements Basic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ring hell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turn “hello, world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ocol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 x00 x00 x00 x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e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el"/>
              </a:rPr>
              <a:t>Hello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x00 x05 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el"/>
              </a:rPr>
              <a:t>array(“a”=&gt;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9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 S x00 x01 a I x00 x00 x00 x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pplications on Quer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wiki (wikiped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upal – cont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tis – bug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6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lf-descri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for I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operate with scripting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ize primitiv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ize constructing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ize enco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tf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-bit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primitives, int, double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dered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ence (recurs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p short, byte, unsigned, etc (.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tf-8 string (chun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-bit binary (chunk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unked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ing, xml, b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s sending code use fixed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 x10 x00 ... B x03 x43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itable for larg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URLs as service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sy to publish an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need for ws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identify object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/student?id=Harry+Po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s COR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I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d types across (more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URL vs 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ize en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ize string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s SO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68000" y="2408040"/>
            <a:ext cx="907236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void XML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void name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Full binar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void mixing protocol with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estrict 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void WS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s XML-R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ursiv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onal 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t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hod over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kitech / Caucho Profession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 position available at Cau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us for drinks afterwards to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quilaville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oor bar – 12 Vanderbilt 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default mediawiki home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x faster with straight mod_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0% faster than eaccelerator for media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speed as eaccelerator for Dru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r mileage may 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rcus 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P applications wanting Java performance, stability, security,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va sites wanting PHP web-apps, e.g. wiki, blo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va applications using PHP as presentation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P to bytecode comp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nection poo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buffer over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just PHP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so any modules with C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braries such as Java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database config out of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segvs in librar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ry management and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7097760" y="5950080"/>
            <a:ext cx="1886040" cy="79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lorin</dc:creator>
  <dc:description/>
  <dc:language>en-US</dc:language>
  <cp:lastModifiedBy>florin</cp:lastModifiedBy>
  <dcterms:modified xsi:type="dcterms:W3CDTF">2010-11-03T13:30:43Z</dcterms:modified>
  <cp:revision>6</cp:revision>
  <dc:subject/>
  <dc:title>Quercus and Hessian</dc:title>
</cp:coreProperties>
</file>