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507-D78B-4E92-A6CC-B10DA1B9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96B-DE13-450B-AF2A-82A6808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73D-49C4-4994-9F95-F42B2726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20A-E69B-4FA6-82B9-99B7538D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8B7-EA0C-4397-A561-5442DD5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E2B-04B3-4E79-B6D2-C56DDC0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EC0-3C70-40DE-A986-F3C4205E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285-8560-4E13-B0B2-F74F3913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DB1-EF9B-4EC1-A1AB-A7182FB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41A-7973-4324-981B-7A67D9B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A49-B15E-4A7F-A4AD-5FF8812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0A3-F6FB-4744-AF30-F1E2A63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24D-AF7D-47B2-B232-DF67F5EA865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DF8E-FBAE-43EE-B2C5-EB6779189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calhost:8080/ajaxFields/toUpcas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47DC-6C72-491E-9886-08CAF115CF3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0866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8C1D501-969F-4E5D-95A9-5DEFEF8E8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; architecture, cli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programming; architecture, client processes, AJ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5ED-F2C9-44CD-BA36-13C3513D330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A77717E-45D2-4F91-B004-38C1621BE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iecte Java specializate pentru clienti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URL, HttpURLConnection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0" y="3808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net.*;  import java.io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class HttpUrl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tatic void main(String a[]) throws Exception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url = new URL("http://localhost/cgi-bin/Exec.py?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URLConnection conn = (HttpURLConnection)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Method("GE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.out.println(conn.getResponseCode()+" "+conn.getResponseMessag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feredReader 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String linie = in.readLine();  if (linie == null) break;      System.out.println(linie);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conn.disconnec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= new URL("http://localhost/cgi-bin/Exec.py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(HttpURLConnection)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Method("POST");    conn.setDoIn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Output(true);                     conn.setUseCaches(fals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Property("Content-Type", "application/x-www-form-urlencoded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StreamWriter oUt = new OutputStreamWriter(conn.getOutputStream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write("sir=negru&amp;nr1=66&amp;nr2=75")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flus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.out.println(conn.getResponseCode()+" "+conn.getResponseMessag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  String linie = in.readLine();      if (linie == null) break;      System.out.println(linie);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conn.disconnect();  }}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9B5-8349-4746-A08E-495792ECD34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CAAB02A-124A-411A-9C80-B96DA7E7A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rsiune Java simpla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URLConnection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0" y="38088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class Url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tatic void main(String a[]) throws Exception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url = new URL("http://localhost/cgi-bin/Exec.py?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Connection conn = 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feredReader 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String linie = in.readLine();     if (linie == null) break;       System.out.println(linie);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= new URL("http://localhost/cgi-bin/Exec.py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In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Out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UseCaches(fals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Property("Content-Type", "application/x-www-form-urlencoded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StreamWriter oUt = new OutputStreamWriter(conn.getOutputStream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write("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flus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String linie = in.readLine();    if (linie == null) break;       System.out.println(linie);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} }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F81-6659-418B-A3B0-3423B80C2CA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93188CE-9124-45F2-88E1-8601E4B87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iecte C# specializate pentru access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ttpWebRequest, HttWebRespons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6320" y="457200"/>
            <a:ext cx="8991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ystem; using System.Net; using System.IO; using System.Tex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class Url {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static void Main(String[] args) {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WebRequest req = (HttpWebRequest)WebRequest.Create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http://localhost/cgi-bin/Exec.py?sir=negru&amp;nr1=66&amp;nr2=75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Method = "GET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WebResponse res = (HttpWebResponse)req.GetResponse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eamReader reader = new StreamReader(res.GetResponseStream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s.StatusDescription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ader.ReadToEnd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 = (HttpWebRequest)WebRequest.Create("http://localhost/cgi-bin/Exec.py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Method = "POST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ContentType = "application/x-www-form-urlencoded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yte[] formData = UTF8Encoding.UTF8.GetBytes("sir=negru&amp;nr1=66&amp;nr2=75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ContentLength = formData.Length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eam oUt = req.GetRequestStream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.Write(formData, 0, formData.Length); oUt.Flush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 = (HttpWebResponse)req.GetResponse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der = new StreamReader(res.GetResponseStream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s.StatusDescription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ader.ReadToEnd());   }  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1DB-2296-43C3-AF4F-CFD033F07D1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026A953-6EE6-4A88-A083-004D49392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blioteca PHP specializata pe resurse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URL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0" y="39528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conn = curl_ini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options = array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URL=&gt;"http://localhost/cgi-bin/Exec.py?sir=negru&amp;nr1=66&amp;nr2=75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HEADER=&gt;false, CURLOPT_HTTPGET=&gt;true, CURLOPT_RETURNTRANSFER=&gt;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setopt_array($conn, $option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res = curl_exec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close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ho $r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conn = curl_ini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options = array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URL=&gt;"http://localhost/cgi-bin/Exec.py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HEADER=&gt;true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POST=&gt;tru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POSTFIELDS=&gt;"sir=negru&amp;nr1=66&amp;nr2=75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RETURNTRANSFER=&gt;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setopt_array($conn, $option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res = curl_exec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close ($conn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ho $r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8A0-E25B-49F4-B60D-90F491B1A05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64570653-4C3E-4749-9002-F9EB32407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(Asinchronous Javascript And Xm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85800" y="609480"/>
            <a:ext cx="7620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ax – combinatie de tehnologii open sour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imbaje de prezentare bazate pe XHTML şi pe CS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acţiuni şi afişări dinamice bazate pe DOM (Document Object Model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himb de date şi manipulari folosind XML si XST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 asincron de date folosind XMLHttpReques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grare la client folosind JavaScrip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685800" y="3352680"/>
            <a:ext cx="76201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hnologii bazate pe Aj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type JavaScript framework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prototype.conio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jax Pages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ajax-pages.sourceforge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R Direct Web Remoting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getahead.ltd.uk/dw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K de la Potix Corporation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zk1.sourceforge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jo toolkit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www.javapassio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rkut, Gmail, Google Groups, Google Suggest, Google Map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FCF-D2C5-498E-9342-D38F89D9AC0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9DC608E-8583-4908-9AFD-C09FC56FC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ces clasic vs. access Ajax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9A6-08DE-4B82-A3A5-11FA3F14A35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6885DEBE-22C3-4A8A-84B8-76B458242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ces clasic vs. acces Aja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6294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61B1-5880-4B65-8531-1988BE4F5FF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D0C381C-457C-40FF-83CE-EE8574EB0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HttpRequest – definire, meto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XMLHttpRequest(); // Mozilla, Opera, Netscape, Firefox, Safari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ActiveXObject('MSXML2.XMLHTTP');  // IE # versi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ActiveXObject('Microsoft.XMLHTTP'); // IE # versi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981080"/>
          <a:ext cx="8686800" cy="43056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Nam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Name, password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fică methoda, URL, şi alte atribute opţionale ale cerer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 poate avea una dintre valorile "GET", "POST", "PUT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 poate fi unul relativ sau unul abso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ync specifică dacă cererea se face asincron sau nu. De regulă valoarea este true. In cazul false există riscuri de impa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nd( content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mite stringul de cerere (nume=value&amp;nume=value . . 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ResponseHeader( headerNam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valoarea headerului specific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RequestHeader( label, valu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ugă o pereche label/value la headerul HTTP care va fi trim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AllResponseHeader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setul complet de head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or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ulează cererea curent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89B-EC38-458A-9D77-21F683BECAF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0748C92-387F-49BA-ACAD-10B87D49A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HttpRequest - proprieta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8080" y="914400"/>
            <a:ext cx="5486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762120"/>
          <a:ext cx="8458200" cy="5410080"/>
        </p:xfrm>
        <a:graphic>
          <a:graphicData uri="http://schemas.openxmlformats.org/drawingml/2006/table">
            <a:tbl>
              <a:tblPr/>
              <a:tblGrid>
                <a:gridCol w="3593880"/>
                <a:gridCol w="4864320"/>
              </a:tblGrid>
              <a:tr h="299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rie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ady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starea obiectulu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= neiniţializat (nu s-a apelat op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= open - cerere în curs de încărcare (înainte de se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= sent - cerere încărcată, dar răspuns încă nesos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= receiving – răspuns în process de sos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loaded – cerere rezolva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nreadystate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eră mecanismul de tratare a evenimentului readystate==4. Valoarea ei este, de regulă, funcţia (JavaScript) care procesează răspunsu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răspunsului (Http) de la server: 200 for "OK", 404 for "Not Found" etc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tus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 de mai sus dat ca şi string: “OK”, “Not Found”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, prezentat ca şi un str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X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, prezentat ca şi un document XML. Acest răspuns poate fi parsat (la browser – motorul ) folosind W3C DOM şi apoi să actualizeze pagi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9C4-C255-40D9-B84A-C92D4E19466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FFBC84C-90AB-4B97-BE30-DA80979F0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hema cadru a unei aplicatii Aja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6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63F-8919-40E7-817E-571DCF0E3F2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516B9F7-F3B2-474B-8F7E-4BA3D757F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s “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Proxy” &amp; “Cach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3960" y="456480"/>
            <a:ext cx="61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xy: HTTP intermediaries that sit between clients and serv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647960" cy="1816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49320" y="3123360"/>
            <a:ext cx="76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che: HTTP storehouses that keep copies of popular web pages close to cli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5486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868E-663A-4230-BD8A-726D0227AA1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B409BFC-27D6-44EF-9B41-4A981947A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– exemplul 1 – Upcase – interfata + ser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7010280" cy="29815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2209680" y="3429000"/>
            <a:ext cx="6934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er  + PH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?php   $nume = $_GET['name'];   echo strtoupper($nume); 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er + Servl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  doGet(HttpServletRequest req, HttpServletResponse res) 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.setContentType("text/plai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ng name = req.getParameter("name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Writer out = res.getWriter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println(name.toUpperCas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EC4F-5F5F-4AB3-941F-7BFB68C7C35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42FAF00-FBD4-485D-AD08-E05495E95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Fields.htm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0" y="38088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DOCTYPE html PUBLIC "-//W3C//DTD XHTML 1.0 Strict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ttp://www.w3.org/TP/xhtml1/DTD/xhtml1-strict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-- Acest document, impreuna cu fisierele .js, trebuie sa se afle pe server! --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itle&gt;Test campuriAjax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 src="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jaxFields.j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&gt;url =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ocalhost:8080/ajaxFields/toUpca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&gt;    &lt;form&gt;      &lt;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Sir1&lt;/td&gt;          &lt;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onKeyUp="doRequest('name',this.value,'cell1','GET');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Upcase1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cell1" disabled="disabled"/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Sir2&lt;/td&gt;          &lt;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onBlur="doRequest('name',this.value,'cell2','POST');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Upcase2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cell2" disabled="disabled"/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able&gt;     &lt;/form&gt;  &lt;/body&gt;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205-EFEA-4AEA-9840-F6CFD082721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2B9E760-3597-4458-B992-12F0F3B71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Fields.j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0" y="38088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url, request,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doReque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ame, value, id, method) 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 - numele campului care va fi transmis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value - stringul de transmis la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d - id-ul campului unde se va depune raspunsul server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thod - metoda (GET sau POST) de transmitere a cerer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getXmlHttpRequest(); // necesar la fiecare apel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nreadystatechange = waitResponse;  // Fct proceseaza raspuns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method =="POST"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pen("POST", url, true); // deschide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tRequestHeader("Content-Type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application/x-www-form-urlencoded; charset=UTF-8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nd(name+"="+value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 (method == "GET"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pen("GET", url+"?"+name+"="+value, true); // Desch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nd(""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Eroare la method (trebuie GET sau POST): "+method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66F-9F24-4CFE-AAB8-002157DEAE3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7048ED0-A42C-415A-ACB0-282DD2C79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Fields.j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0" y="380880"/>
            <a:ext cx="899172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getXmlHttpReques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// Furnizeaza obiectul XMLHttpRequ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XMLHttpRequest(); // Mozila, Firefox, Netscape, Opera et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ActiveXObject('MSXML2.XMLHTTP'); // Microsoft 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ActiveXObject('Microsoft.XMLHTTP'); // Microsoft 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Browserul nu poate lucra cu AJAX: "+e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false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}    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ques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showRespons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id).value = request.responseText; // depune raspunsu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waitRespons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// Depune textul de la server in campul indexat cu 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request.readyState == 4) { // cerere rezolv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request.status == 200) { // raspuns O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Response(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Eroare request.status: "+request.status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}    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2D3B-6812-49E5-B265-8E10023C3B0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D40CCB4-CEFC-4308-A7DC-497BDD5A6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– exemplul 2 – schimb XML - interf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5956200" cy="327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3276720" cy="194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581280" y="990720"/>
            <a:ext cx="5334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EC0E-47CA-4E0E-9E36-A7B07F53D8C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0D304300-A2C4-4D29-BE8D-C61BD93B6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Xml.htm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152280" y="3808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-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script type="text/javascript" src="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jaxXml.j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&gt;&lt;/scrip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script type="text/javascript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rl = "http://localhost:8080/ajaxXml/ajaxXmlSender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script&gt;  &lt;/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body&gt;    &lt;h3&gt;Date personale&lt;/h3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form action="javascript:void%200"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onsubmit="doRequest('docDisplay', this);return false" </a:t>
            </a:r>
            <a:r>
              <a:rPr b="1" lang="en-US" sz="2000" spc="-1" strike="noStrike">
                <a:solidFill>
                  <a:srgbClr val="0d0d0d"/>
                </a:solidFill>
                <a:latin typeface="Calibri"/>
              </a:rPr>
              <a:t>method="post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able&gt;         &lt;tr&gt;           &lt;td&gt;Prenume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prenume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 &lt;tr&gt;           &lt;td&gt;Nume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nume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 &lt;tr&gt;          &lt;td&gt;Sex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sex" size="2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&lt;tr&gt;          &lt;td&gt;Tara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tara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&lt;/table&gt;            &lt;button type="submit"&gt;Send&lt;/button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&lt;div id="docDisplay"&gt;&lt;/div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form&gt;  &lt;/body&gt;&lt;/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5D6-3C38-4157-8106-69DB87B4694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DE7D45F-B18A-455F-BC49-21D7A2D6C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Xml.j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3808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request, url, i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doReque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id, frm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nreadystatechange = waitResponse;  // Fixeaza functia ce proceseaza raspuns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pen("POST", url, true); // deschide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setRequestHeader("Content-Type",  "application/x-www-form-urlencoded; charset=UTF-8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queryString="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numberElements = frm.elements.lengt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(var i = 0; i &lt; numberElements-1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ryString += frm.elements[i].name+"="+ encodeURIComponent(frm.elements[i].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(i &lt; numberElements-2)       queryString +="&amp;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(!window.ActiveXObjec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verrideMimeType('"text/xml"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send(queryString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getXmlHttpReque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) { // Furnizeaza obiectul XMLHttpReq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 {      request = new XMLHttpRequest(); // Mozila, Firefox, Netscape, Opera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tr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new ActiveXObject('MSXML2.XMLHTTP'); // Microsoft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 tr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new ActiveXObject('Microsoft.XMLHTTP'); // Microsoft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   alert("Browserul nu poate lucra cu AJAX: "+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false;       }     }   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 request;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022-0CAB-4456-B662-DBFE5EEAA74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E1DE397-3914-49DA-8FD5-9773A65D0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Xml.j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3520" y="395280"/>
            <a:ext cx="8001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how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request.responseTex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doc = request.responseXM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root = doc.documentEleme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info = "&lt;h3&gt;Elementul radacina: &lt;/h3&gt;"+ root.node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(root.hasChildNodes()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s=root.childNod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+= "&lt;h4&gt;Fii radacinii: nume : valoare&lt;h4/&gt;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var i = 0; i &lt; nds.length; i++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+= nds[i].node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(nds[i].hasChildNodes()){        info+= " : "+nds[i].firstChild.nodeValue+"&lt;br/&gt;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        info+= " : vid&lt;br/&gt;";      }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id).style.backgroundColor="yellow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id).innerHTML=inf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wait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)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Respon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      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  }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46F-5050-42CF-BF36-F68209915A5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0F5AA84-6FCF-49BC-A783-1501A3A20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html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0" y="3808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ead&gt;    &lt;title&gt;Exemplu AJAX PHP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 src="ExecAjax.js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&gt;    &lt;form&gt;      &lt;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sir" size="1" onBlur="doRequestSir(this.value)" value="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upcase" size="1" disabled="disabled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      &lt;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nr1" size="1" onBlur="doRequestSuma('nr1', this.value)" value="0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nr2" size="1" onBlur="doRequestSuma('nr2', this.value)" value="0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suma" size="1" disabled="disabled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    &lt;/form&gt;   &lt;/body&gt;   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9B2D-832F-450F-9C33-A0CA8F574CE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EEDF783-0F67-4798-9A82-285DD8E95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j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0" y="380880"/>
            <a:ext cx="9144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ar url, request, id;   url = "</a:t>
            </a:r>
            <a:r>
              <a:rPr b="0" lang="en-US" sz="1900" spc="-1" strike="noStrike">
                <a:solidFill>
                  <a:srgbClr val="0070c0"/>
                </a:solidFill>
                <a:latin typeface="Calibri"/>
              </a:rPr>
              <a:t>http://localhost/ExecAjax.php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doRequestSir(valu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{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/ value - stringul de transmis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nreadystatechange = waitResponseSir;  // Functia ce proceseaza raspuns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pen("GET", url+"?sir="+value, true); // deschide conexiunea cu server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send(""); // trimite cererea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doRequestSuma(name, valu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{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/ name  - numele campului transmis la server;  value - stringul de transmis la ser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nreadystatechange = waitResponseSuma;  // Functia ce proceseaza raspuns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pen("GET", url+"?"+name+"="+value, true); // deschide conexiunea cu server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send(""); // trimite cererea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getXmlHttpRequest()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{   try { request = new XMLHttpRequest(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try { request = new ActiveXObject('MSXML2.XMLHTTP'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try { request = new ActiveXObject('Microsoft.XMLHTTP'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alert("Browserul nu poate lucra cu AJAX: "+e); request = false; } } 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turn request;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F467-C0DA-44FD-B064-4A220491B82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3698752-3CFC-474B-9BCC-3291064AA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s “Gateway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” &amp; “Tunne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80060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6248520" cy="2838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10040" y="45648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eway: special web servers that connect to other appl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90040" y="289476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nel: special proxies that blindly forward HTTP commun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754-0832-4602-8FE8-FB6CBFE723F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78665F5-FFE7-4710-8933-59A33C26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js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0" y="380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waitResponseSir(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"upcase").value = request.responseText; // depune raspuns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waitResponseSuma(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"suma").value = request.responseText; // depune raspuns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7FA-A46F-46B6-81C9-94674D5A8CD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4F7D8BB-3F08-4C3A-AD32-A0142C068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serveru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php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76320" y="457200"/>
            <a:ext cx="8915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GET['sir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sir = $_GET['sir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strtoupper($sir)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else if (isset($_GET['nr1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1 = $_GET['nr1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cookie('nr1', $nr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2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COOKIE['nr2'])) $nr2 = $_COOKIE['nr2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$nr1 + $nr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else if (isset($_GET['nr2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2 = $_GET['nr2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cookie('nr2', $nr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1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COOKIE['nr1'])) $nr1 = $_COOKIE['nr1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$nr1 + $nr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6C25-E95E-4C10-AC46-216FDA1D827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E8CE4423-7BB3-49CD-B119-DDFE33ABD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: prezentare generala  + Ajax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questionmark.jpg"/>
          <p:cNvPicPr/>
          <p:nvPr/>
        </p:nvPicPr>
        <p:blipFill>
          <a:blip r:embed="rId1"/>
          <a:stretch/>
        </p:blipFill>
        <p:spPr>
          <a:xfrm>
            <a:off x="1828800" y="6094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4C03-41DE-4FCE-A1CF-D57902E0E74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08F39461-BC7C-44C5-AC72-799B5851A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5182-D548-4F97-B1DE-B1147F4B375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3F9C09A-175A-49C5-8CF3-DF4CEAFEC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867-A025-4699-B700-EE633DA9883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E39568AD-9EA6-404C-8793-6C70F4F0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“Agent (spider, web robot, crowler)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6320" y="1034280"/>
            <a:ext cx="510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r agents (or just agents) are client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at make HTTP requests on the user's behalf. Any application that issues web requests is an HTTP agent. So far, we've talked about only one kind of HTTP agent: web browsers. But there are many other kinds of user a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example, there are machine-automated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ts that autonomously wander the Web, issuing HTTP transactions and fetching content, without human supervis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se automated agents often have colorful names, such as "spiders“, “crowler” or "web robots“. Spiders wander the Web to build useful archives of web content, such as a search engine's database or a product catalog for a comparison-shopping robo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61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7E46-F571-4F19-9607-2DDB496D7A6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E7D6C74-1E2D-4D31-9122-A68B0955F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hitectura aplicatiilor We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76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6E9C-D6D4-4B51-9AF7-19EC90D72A6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E6EFD7D-CC7B-45D3-A3F2-345FA80C6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ceptare Web prin socket; exemplu su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8656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3505320"/>
            <a:ext cx="2819520" cy="230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048120" y="380880"/>
            <a:ext cx="6095880" cy="65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head&gt;&lt;title&gt;Exemplu pentru interceptari&lt;/title&gt;&lt;/head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form action="http://localhost/cgi-bin/Exec.exe" method="POST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sir" size="1" value="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label id="upcase"&gt;&lt;/labe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nr1" size="1" value="0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nr2" size="1" value="0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label id="suma"&gt;0&lt;/labe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submit value= "Exec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form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htm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F49-7FB3-42AB-AEC6-0D3717C789A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7069F69-B784-49E3-81AA-2452AAD1F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ceptare cereri Web prin sock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3808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= "localhost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= 80 #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 impune oprirea serverului Web (port 80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= socket.socket(socket.AF_INET, socket.SOCK_STRE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.bind((HOST, PORT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.listen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, addr = s.accept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= conn.recv(102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not data: 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590920" y="1676520"/>
            <a:ext cx="6476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POST /cgi-bin/Exec.exe HTTP/1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Host: localho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User-Agent: Mozilla/5.0 (Windows; U; Windows NT 6.1; en-US) AppleWebKit/532.5 (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HTML, like Gecko) Chrome/4.0.249.89 Safari/532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tent-Length: 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ache-Control: max-age=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Origin: file: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tent-Type: application/x-www-form-urlenco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: application/xml,application/xhtml+xml,text/html;q=0.9,text/plain;q=0.8,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mage/png,*/*;q=0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Encoding: gzip,deflate,sd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Language: en-US,en;q=0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Charset: ISO-8859-1,utf-8;q=0.7,*;q=0.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sir=negru&amp;nr1=66&amp;nr2=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E93-BE0B-4C90-891A-112B0265194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5C0CA0C-3A20-4A70-ADA6-A5447AC58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licitare cerere si obtinere raspuns prin socket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0" y="380880"/>
            <a:ext cx="579132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port sock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ST = "localhost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 = 8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 = socket.socket(socket.AF_INET, socket.SOCK_STREA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connect((HOST, PORT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 = ""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# Pentru GET se trece cererea in prima linie si dispare ultima lini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ST /cgi-bin/Exec.exe HTTP/1.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st: localho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ent-Length: 2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r=negru&amp;nr1=66&amp;nr2=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""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send(req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ile 1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= s.recv(1024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not data: brea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nt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close(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438280" y="2590920"/>
            <a:ext cx="6705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HTTP/1.1 200 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Date: Wed, 17 Mar 2010 07:00:55 G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Server: Apache/2.2.14 (Win32) DAV/2 mod_ssl/2.2.14 OpenSSL/0.9.8l mod_autoindex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olor PHP/5.3.1 mod_apreq2-20090110/2.7.1 mod_perl/2.0.4 Perl/v5.10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Transfer-Encoding: chunk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ontent-Type: text/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2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&lt;!DOCTYPE html PUBLIC "-//W3C//DTD XHTML 1.1//EN""http://www.w3.org/TR/xhtml11/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TD/xhtml11.dtd"&gt;&lt;html xmlns="http://www.w3.org/1999/xhtml" &gt;&lt;head&gt;&lt;title&gt;Exempl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GI&lt;/title&gt;&lt;/head&gt;&lt;body&gt;&lt;form action="/cgi-bin/Exec.exe" method="GET"&gt;&lt;div&gt;Si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&lt;input type="text" name="sir" size="1" value="negru"&gt;=&amp;gt;&lt;label id="upcase"&gt;NE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RU&lt;/label&gt;&lt;/div&gt;&lt;div&gt;Suma:&lt;input type="text" name="nr1" size="1" value="66"&gt;+&lt;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put type="text" name="nr2" size="1" value="75"&gt;=&lt;label id="suma"&gt;141&lt;/label&gt;&lt;/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v&gt;&lt;input type=submit value= "Exec"&gt;&lt;/form&gt;&lt;/body&gt;&lt;/html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33E-547E-4E8F-A435-4727F69E8BF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0F774AF2-5A20-4B44-A9FA-E2671A156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dule Python specializate pentru clienti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ttpli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0" y="380880"/>
            <a:ext cx="8991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httpl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httplib.HTTPConnection("localhost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request("GET", "/cgi-bin/Exec.py?sir=negru&amp;nr1=66&amp;nr2=75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 = conn.getrespon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status, res.rea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read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httplib.HTTPConnection("localhost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request("POST", "/cgi-bin/Exec.py", "sir=negru&amp;nr1=66&amp;nr2=75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 = conn.getrespon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status, res.rea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read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_Boian</cp:lastModifiedBy>
  <dcterms:modified xsi:type="dcterms:W3CDTF">2010-03-21T16:18:49Z</dcterms:modified>
  <cp:revision>107</cp:revision>
  <dc:subject/>
  <dc:title>HTTP: prezentare generala</dc:title>
</cp:coreProperties>
</file>