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E4F-1814-40B8-93A6-01923E2C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4A7-1304-4D66-ACBA-190AA43B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2DD-16D0-46F2-93F2-5CBC0AD4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A57-5640-47D7-85A2-8D9C40B2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535-3E73-4BDA-8444-10D0F3C8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EB9-DF6E-4E42-83F0-E4691735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29C-F521-4AF5-889D-8F66B368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428-2F43-4172-B169-D46F1A45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212-441A-4210-98AF-1ADC174E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B4E-0067-4E56-858B-5ACBD4C5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83E-A6C5-4C85-A7A7-BEBF19D3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617-0BAC-47B9-BAF6-A6DAE9DD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6F4D-A6AD-4D83-83CF-546D671FE43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70DF-66CB-4DA7-881F-53B58B988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40B9-DE33-48A0-8A77-4176BC3BB41E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70866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7E6E1DF7-A14E-41E2-9EBF-E8B6B0D89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b programming; business ser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programming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siness serv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8A10-B433-4979-8AF3-54D756D35F6F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12511F3A-A69F-4269-9EAC-E48A2F29B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nected Tomcat to Apa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od_jk-apache-2.2.4.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renam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od_jk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/conf/httpd.con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Module zone inse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b050"/>
                </a:solidFill>
                <a:latin typeface="Arial"/>
              </a:rPr>
              <a:t>LoadModule jk_module modules/mod_jk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end of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işierului /conf/httpd.con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&lt;IfModule mod_jk.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WorkersFile conf/workers.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LogFile logs/mod_jk.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LogLevel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LogStampFormat "[%a %b %d %H:%M:%S %Y] 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Options +ForwardKeySize +ForwardURICompat -Forward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RequestLogFormat "%w %V %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Mount /Exec/Serv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&lt;/IfModu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 /conf c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worker.proper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with content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workers.tomcat_home=c:/apache-tomcat-6.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workers.java_home=c:/jdk1.6.0_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ps=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worker.list=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worker.Exec.port=8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worker.Exec.host=local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worker.Exec.type=ajp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77EA-33CB-467B-B829-57853D35F38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66857F58-4106-4249-8878-3683E962D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SP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yedba920.urtarch(en-us,VS.71).gif"/>
          <p:cNvPicPr/>
          <p:nvPr/>
        </p:nvPicPr>
        <p:blipFill>
          <a:blip r:embed="rId1"/>
          <a:stretch/>
        </p:blipFill>
        <p:spPr>
          <a:xfrm>
            <a:off x="2514600" y="838080"/>
            <a:ext cx="4495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BE41-9858-464D-969C-91586E68AC2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B483891F-C707-486B-B377-822D71780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3808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PHP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's browser makes an HTTP request to server for the CGI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configuration of the server, it will figure out the request is not static content but a request to evaluate PHP code in an HTML document based on the directory and/or the file ext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ule that evaluates PHP code, already dynamically linked into apache and in memory, is called to evaluate the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P module is fed in the contents of the page, and interprets it. The stdout of the script is fed back t ap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P module's output is sent back, with header information, to the brow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C066-A75C-49D8-8375-E200567718B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A0894CC8-B8F4-4F94-BC43-E99AFD969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SP – Scriptng Server P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0" y="68580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group – client par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(X)HTML, CSS, JavaScrip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group –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 can b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S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- MS Visual Bas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Vb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S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NE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- C#, Visual Basic .NET, Vbscript .N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any compatibl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NE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JS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–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PH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– 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PS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–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2286000" y="43434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ASP, ASP.NET, JSP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 PSP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:              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&lt;% - - - %&gt;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PHP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&lt;?php - - - ?&gt;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optionally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&lt;% - - -%&gt;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ASP.NET compatible XML: 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&lt;asp:nume - - - /&gt;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JSP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        compatible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 XML: 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&lt;jsp:nume - - - /&gt;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1CE7-6646-40E5-B407-E31351E3DCFD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6240F847-699F-4A28-AE5D-798BC3D42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c.aspx (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0" y="5335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&lt;%@ Page Language="C#" %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&lt;!DOCTYPE html PUBLIC "-//W3C//DTD XHTML 1.1//EN" "http://www.w3.org/TR/xhtml11/DTD/xhtml11.dtd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&lt;script runat="server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void runExec(Object sender, EventArgs 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tring s = sir.Tex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t n1 = int.Parse(nr1.Tex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t n2 = int.Parse(nr2.Tex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r.Text =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r1.Text =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r2.Text = n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upcase.Text = s.ToUppe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uma.Text = (n1 + n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F483-140C-4322-96FD-5F899408278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B2584AE3-040C-4832-80C1-F39EB9A12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c.aspx(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28600" y="533520"/>
            <a:ext cx="8534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html xmlns="http://www.w3.org/1999/xhtml"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head runat="server"&gt;&lt;title&gt;Exemplu ASP.NET&lt;/title&gt;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form id="form1" runat="serv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ir:   &lt;asp:TextBox id="sir" runat="server" size="1" value=""/&gt;  =&amp;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abel id="upcase"&gt;&lt;/lab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uma: &lt;asp:TextBox id="nr1" runat="server" size="1" value="0"/&gt;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asp:TextBox id="nr2" runat="server" size="1" value="0"&gt;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abel id="suma"&gt;0&lt;/lab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asp:Button text="Exec" runat="server" OnClick="runExec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ECE5-6D65-4F7A-86A7-211348E0544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AE14A9B8-93F1-4704-8740-E89F523BB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c.j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52280" y="457200"/>
            <a:ext cx="8991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!DOCTYPE html PUBLIC "-//W3C//DTD XHTML 1.1//E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"http://www.w3.org/TR/xhtml11/DTD/xhtml11.dt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html xmlns="http://www.w3.org/1999/xhtml"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head&gt;&lt;title&gt;Exemplu JSP&lt;/title&gt;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&lt;%   String sir = request.getParameter("sir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t nr1 = Integer.parseInt(request.getParameter("nr1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t nr2 = Integer.parseInt(request.getParameter("nr2"));    %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form action="/Exec.jsp" method="get"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r:  &lt;input type="text" name="sir" size="1" value="&lt;%=sir%&gt;"&gt;  =&amp;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label id="upcase"&gt;&lt;%=sir.toUpperCase()%&gt;&lt;/lab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ma:  &lt;input type="text" name="nr1" size="1" value="&lt;%=nr1%&gt;"&gt;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input type="text" name="nr2" size="1" value="&lt;%=nr2%&gt;"&gt;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label id="suma"&gt;&lt;%=(nr1 + nr2)%&gt;&lt;/lab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input type=submit value= "Exec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D0F6-97F5-43D6-85B9-7FAD18742E67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7673A2BB-3E55-4144-A8C8-E08835BF0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c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0" y="38088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!DOCTYPE html PUBLIC "-//W3C//DTD XHTML 1.1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"http://www.w3.org/TR/xhtml11/DTD/xhtml11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html xmlns="http://www.w3.org/1999/xhtml"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head&gt;&lt;title&gt;Exemplu PHP&lt;/title&gt;&lt;/head&gt;  &lt;body&gt;    &lt;?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$sir = $_GET['sir'];       $nr1 = $_GET['nr1'];       $nr2 = $_GET['nr2'];     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form action="/Exec.php" method="get"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ir:&lt;input type="text" name="sir" size="1" value="&lt;?php echo $sir; ?&gt;"&gt;  =&amp;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abel id="upcase"&gt;&lt;?php echo strtoupper($sir); ?&gt;&lt;/lab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uma: &lt;input type="text" name="nr1" size="1" value="&lt;?php echo $nr1; ?&gt;"&gt;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input type="text" name="nr2" size="1" value="&lt;?php echo $nr2; ?&gt;"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abel id="suma"&gt;&lt;?php echo ($nr1 + $nr2); ?&gt;&lt;/lab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input type=submit value= "Exec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1023-FF80-46D4-962D-8C774E43D056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0D8A2033-34B3-46FB-821F-CF5C1EF78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c.p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0" y="30492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!DOCTYPE html PUBLIC "-//W3C//DTD XHTML 1.1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"http://www.w3.org/TR/xhtml11/DTD/xhtml11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html xmlns="http://www.w3.org/1999/xhtml"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head&gt;&lt;title&gt;Exemplu PSP&lt;/title&gt;&lt;/head&gt;  &lt;body&gt;    &lt;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ir = form["sir"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1 = int(form["nr1"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2 = int(form["nr2"])    %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form action="/psp/Exec.psp" method="get"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ir: &lt;input type="text" name="sir" size="1" value="&lt;%=sir%&gt;"&gt;   =&amp;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abel id="upcase"&gt;&lt;%=sir.upper()%&gt;&lt;/lab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uma:&lt;input type="text" name="nr1" size="1" value="&lt;%=str(nr1)%&gt;"&gt;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input type="text" name="nr2" size="1" value="&lt;%=str(nr2)%&gt;"&gt;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abel id="suma"&gt;&lt;%=str(nr1 + nr2)%&gt;&lt;/lab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input type=submit value= "Exec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31D4-A5FF-42B9-B24D-82C824A85536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86B0ED4C-F9F0-49D4-8D0A-F16D7FD8B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questionmark.jpg"/>
          <p:cNvPicPr/>
          <p:nvPr/>
        </p:nvPicPr>
        <p:blipFill>
          <a:blip r:embed="rId1"/>
          <a:stretch/>
        </p:blipFill>
        <p:spPr>
          <a:xfrm>
            <a:off x="1828800" y="6858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C748-83A6-4EAE-8306-32C2BD88B08E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609C5B36-0DFA-4593-BE07-7A14FE20F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380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ng execution rights so that Web server to run it with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cation of the file must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just right place (directory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G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must c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environment variable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lik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geten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TTP method is not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GE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G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to read the file stdi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G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st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is mandatory that it name respect a syntax (i.e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cg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else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GI – Common Gateway Interface - stand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DC3B-C4AB-44F4-8444-4D80332422B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BCA2C759-B0BD-45C2-8845-3B5148E95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C163-EC7B-4EA8-84AB-A6D9779EB33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964BB3BE-C4A7-4A61-A548-8C145C7A2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E148-6F65-469B-B226-0426F763E89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404AE26A-15B6-4000-9E97-E5C0CD4D7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380880"/>
            <a:ext cx="9144000" cy="60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An executable file in the HTTP server CGI directories program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Settings in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httpd.con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Default directory: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/cgi-bin/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can be settings like: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ScriptAlias  /cgi-bin  "c:/xampp/cgi-bin/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Others directories outside of the httpd space, if the root setting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&lt;Directory /home/scs/*/*/*/public_htm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Options Indexes FollowSymLinks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ExecCG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AllowOverride N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&lt;/Directory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Can specify any type of executable file (default, all executab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AddHandler cgi-script .cgi .p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The web server load and run (exec) the CGI if it appear in UR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After  load, a lot of environment variables are sett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Request GET =&gt;                                    QUERY_STR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Request POST, PUT, DELETE etc. =&gt;  st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Response: Standard HTTP response li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GI – Common Gateway Interface - config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B312-5721-4B44-968D-5A377432588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FEE53B67-F66C-49C2-82AF-4A8851130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GI environment var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762120"/>
          <a:ext cx="8991720" cy="5029200"/>
        </p:xfrm>
        <a:graphic>
          <a:graphicData uri="http://schemas.openxmlformats.org/drawingml/2006/table">
            <a:tbl>
              <a:tblPr/>
              <a:tblGrid>
                <a:gridCol w="2614680"/>
                <a:gridCol w="6377040"/>
              </a:tblGrid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RVER_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ele sau adresa IP a server-ului We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RVER_SOFTWA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ftware-ul server-ului Web (IIS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ach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etc.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RVER_PROTOC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tocolul de comunica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RVER_PO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rtul de aştepta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QUEST_METH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oda de cerer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G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POS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PUT, DELETE et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CRIPT_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lea şi numele CGI (de ex. /cgi-bin/TestCgi.cgi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CUMENT_RO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ădăcina server-ului We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ERY_ST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Şirul de cerere din URL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metoda G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MOTE-H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ele maşinii cli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MOTE_ADD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resa IP a maşinii cli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MOTE_US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ele utilizatorului cli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NT_TY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ipul MIME al cererii (de exemplu text/htm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NT_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ungimea (în octeţi)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corpul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i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cerer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TTP_USER_AG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ele browser-ului cli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TTP_REFFER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RL-ul documentului accesat de client înainte de CG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256D-C7E1-4393-AC3F-2DFE033EF67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B3EB159F-4118-4E6C-96DE-AAF5FE6EF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: Exec partea server; interfata, 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152280" y="304920"/>
            <a:ext cx="541044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!DOCTYPE html PUBLIC "-//W3C//DTD XHTML 1.1//EN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"http://www.w3.org/TR/xhtml11/DTD/xhtml11.dtd"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html xmlns="http://www.w3.org/1999/xhtml" 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head&gt;&lt;title&gt;Exemplu CGI&lt;/title&gt;&lt;/head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form action="</a:t>
            </a:r>
            <a:r>
              <a:rPr b="1" lang="ro-RO" sz="1700" spc="-1" strike="noStrike">
                <a:solidFill>
                  <a:srgbClr val="7030a0"/>
                </a:solidFill>
                <a:latin typeface="Calibri"/>
              </a:rPr>
              <a:t>/cgi-bin/Exec.exe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" method="POST"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Si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input type="text" name="sir" size="1" value=""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=&amp;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label id="upcase"&gt;&lt;/labe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Sum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input type="text" name="nr1" size="1" value="0"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input type="text" name="nr2" size="1" value="0"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label id="suma"&gt;0&lt;/labe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input type=submit value= "Exec"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/form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/htm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029200" y="838080"/>
            <a:ext cx="4062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F846-3FF8-43F3-9C10-CDFEFA08A0B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F1EAE378-5209-4908-B0DA-ED673FC67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CGI in C (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0" y="685800"/>
            <a:ext cx="89154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#include "stdafx.h"                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/cgi-bin/Exec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#include &lt;stdlib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#include &lt;string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#include &lt;ctype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 _tmain(int argc, _TCHAR* argv[]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*sir, *pn1, *pn2, linie[100], sIR[10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 nr1, nr2,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f[] = "%s%s%s%s%s%s%s%s%s%s%s%d%s%d%s%d%s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1[] = "&lt;!DOCTYPE html PUBLIC \"-//W3C//DTD XHTML 1.1//EN\"\"http://www.w3.org/TR/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html11/DTD/xhtml11.dtd\"&gt;&lt;html xmlns=\"http://www.w3.org/1999/xhtml\" &gt;&lt;head&gt;&lt;title&gt;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2[] = "&lt;/title&gt;&lt;/head&gt;&lt;body&gt;&lt;form action=\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3[] = "\" method=\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4[] = "\"&gt;&lt;div&gt;Sir:&lt;input type=\"text\" name=\"sir\" size=\"1\" value=\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5[] = "\"&gt;=&amp;gt;&lt;label id=\"upcase\"&gt;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6[] = "&lt;/label&gt;&lt;/div&gt;&lt;div&gt;Suma:&lt;input type=\"text\" name=\"nr1\" size=\"1\" value=\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7[] = "\"&gt;+&lt;input type=\"text\" name=\"nr2\" size=\"1\" value=\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8[] = "\"&gt;=&lt;label id=\"suma\"&gt;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9[] = "&lt;/label&gt;&lt;/div&gt;&lt;input type=submit value= \"Exec\"&gt;&lt;/form&gt;&lt;/body&gt;&lt;/html&gt;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3933-91E0-4B35-8893-ED46A241AC7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2DC1939B-B6BE-416D-9A7E-F27136626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CGI in C (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0" y="609480"/>
            <a:ext cx="8915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strcmp(getenv("REQUEST_METHOD"), "GET") == 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cpy(linie, getenv("QUERY_STRING"));   // apel prin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gets(linie, 100, stdin);                                // apel prin 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r = strstr(linie, "sir=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n1 = strstr(linie, "nr1=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n2 = strstr(linie, "nr2=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r1 = strlen(lini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(i = 0; i &lt; nr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linie[i] == '&amp;') linie[i] = '\0';                   // Terminatorii stringurilor parame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pn1 != NULL) nr1 = atoi(pn1+4); else nr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pn2 != NULL) nr2 = atoi(pn2+4); else nr2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sir != NULL) sir += 4; else { sir = linie; linie[0] = '\0'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(i = 0; sir[i]; sIR[i] = toupper(sir[i]), i++)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R[i] = '\0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f("Content-type: text/html\n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f(f,h1,"Exemplu CGI C",h2,"/cgi-bin/Exec.exe",h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GET",h4,sir,h5,sIR,h6,nr1,h7,nr2,h8,nr1+nr2,h9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1025-1FB6-4AB4-B171-D96C5E3F942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CEB271E7-25B6-4989-B9C5-332AE0D20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CGI in Pyth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914400" y="301680"/>
            <a:ext cx="75438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#!c:/Python26/python.exe                                                                             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/cgi-bin/Exec.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ort c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 = cgi.FieldStorag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y: sir = par["sir"].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cept: sir = "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y: nr1 = int(par["nr1"].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cept: nr1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y: nr2 = int(par["nr2"].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cept: nr2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nt "Content-type: text/html\r\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= "&lt;!DOCTYPE html PUBLIC \"-//W3C//DTD XHTML 1.1//EN\"\"http://www.w3.org/TR/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html11/DTD/xhtml11.dtd\"&gt;&lt;html xmlns=\"http://www.w3.org/1999/xhtml\"&gt;&lt;head&gt;&lt;title&g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Exemplu CGI Python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&lt;/title&gt;&lt;/head&gt;&lt;body&gt;&lt;form action=\"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/cgi-bin/Exec.py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\" method=\"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GET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\"&gt;&lt;div&gt;Sir:&lt;input type=\"text\" name=\"sir\" size=\"1\" value=\"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s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\"&gt;=&amp;gt;&lt;label id=\"upcase\"&g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sir.upp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&lt;/label&gt;&lt;/div&gt;&lt;div&gt;Suma:&lt;input type=\"text\" name=\"nr1\" size=\"1\" value=\"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`nr1`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\"&gt;+&lt;input type=\"text\" name=\"nr2\" size=\"1\" value=\"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`nr2`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\"&gt;=&lt;label id=\"suma\"&g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`nr1 + nr2`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&lt;/label&gt;&lt;/div&gt;&lt;input type=submit value= \"Exec\"&gt;&lt;/form&gt;&lt;/body&gt;&lt;/html&g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nt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CC00-1FBD-4681-97BF-52A0B3FA0B0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B2AA2837-A420-492B-87A9-BEF663A85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rvlet+ J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228600" y="914400"/>
          <a:ext cx="739152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73915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152280" y="3505320"/>
          <a:ext cx="861876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505320"/>
                    <a:ext cx="86187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05:05:29Z</dcterms:created>
  <dc:creator>florin</dc:creator>
  <dc:description/>
  <dc:language>en-US</dc:language>
  <cp:lastModifiedBy>florin</cp:lastModifiedBy>
  <dcterms:modified xsi:type="dcterms:W3CDTF">2011-03-16T12:35:32Z</dcterms:modified>
  <cp:revision>156</cp:revision>
  <dc:subject/>
  <dc:title>HTTP: prezentare generala</dc:title>
</cp:coreProperties>
</file>