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3235-873A-4C16-9FD8-82A5B96F0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254D-FA67-44F7-86FF-C43C9D10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4327-046E-4917-8928-9934F1669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E04E-4249-4ED0-B343-A98244F92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05D8-5E87-4AED-9548-225DA5CB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BD9A-E5E2-4E90-A117-2989BC01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7051-00A0-48EA-87F4-4D4E9ADE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B9F9-AB9D-4FB9-ADB1-E8974353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7194-ADCD-483D-9D0C-368F1B98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1910-E0F8-4791-8322-3FEDF082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EE88-7EAF-4C55-9B9E-AF9EA9F6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FBCB-E865-42B1-9592-E1221ADC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EF91-B644-47C1-8A83-80B92E3BDD2B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0F86-A27E-46FB-9EBE-49BB965280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3E1E-B7CF-4F71-B682-CFDB6340B087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lide Number Placeholder 4"/>
          <p:cNvSpPr/>
          <p:nvPr/>
        </p:nvSpPr>
        <p:spPr>
          <a:xfrm>
            <a:off x="7467480" y="6492960"/>
            <a:ext cx="1676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8895D85C-BB2F-43ED-953D-3933D22F94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HTTP: prezentare general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TTP: prezentare genera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5718-BD39-49A9-8EE8-305F0598BAF5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7467480" y="6492960"/>
            <a:ext cx="1676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Fl. HTTP </a:t>
            </a:r>
            <a:fld id="{A1E37F46-CFC5-42A5-A3DC-128AB560E2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JavaScript sour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0" y="99072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indow.onload = rotat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imagini = new Array("gb.jpg","biso.jpg","plib1.jpg","plib2.jpg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loc = 0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rotate()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oc = (loc + 1) % imagini.length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.getElementById("poze").src = imagini[loc]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tTimeout("rotate()",  1000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859A-0747-4BD7-BE34-719BD220E9F9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7238880" y="6492960"/>
            <a:ext cx="1905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FC48F2BF-0861-4A1B-938A-77EAE4336B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Exemplu XML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0" y="380880"/>
            <a:ext cx="91440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xml version="1.0" encoding="ISO-8859-1"?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!DOCTYPE biblioteca SYSTEM "biblioteca.dtd“&gt;</a:t>
            </a:r>
            <a:r>
              <a:rPr b="1" lang="ro-RO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!-- Valabil la DTD --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iblioteca&gt;</a:t>
            </a:r>
            <a:r>
              <a:rPr b="1" lang="ro-RO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!-- Valabil la DTD --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!--biblioteca xmlns:xsi="http://www.w3.org/2001/XMLSchema-instance"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si:noNamespaceSchemaLocation="biblioteca.xsd"--&gt;</a:t>
            </a:r>
            <a:r>
              <a:rPr b="1" lang="ro-RO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!-- Valabil la XSD --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nume&gt;Biblioteca personala&lt;/nu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omeniu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nume&gt;Informatica&lt;/nu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carte isbn="973-97535-5-8"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itlu&gt;De la aritmetica la calculatoare&lt;/titlu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&gt;Boian Florian&lt;/autor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cart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carte isbn="978-1-594-96-544-9"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itlu&gt;AJAX in lectii de 10 minute&lt;/titlu&gt;&lt;autor&gt;Ballard Phill&lt;/autor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cart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domeniu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omeniu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nume&gt;Poezie&lt;/nu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carte isbn="973-95660-2-2"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itlu&gt;Poezii&lt;/titlu&gt;    &lt;autor&gt;Octavian Goga&lt;/autor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cart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domeniu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omeniu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nume&gt;Sanscrita veche&lt;/nu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domeniu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biblioteca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6088-6CEE-4C9C-A4CA-588BFBCB105B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7315200" y="649296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ADE18D47-75B0-4323-AA10-E9B871C767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XML definitions (1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0" y="68580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ag de </a:t>
            </a:r>
            <a:r>
              <a:rPr b="1" i="1" lang="ro-RO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început</a:t>
            </a:r>
            <a:r>
              <a:rPr b="1" lang="ro-RO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nume [atr1="val1" . . . atrn="valn" ]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ag de </a:t>
            </a:r>
            <a:r>
              <a:rPr b="1" i="1" lang="ro-RO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fârşit</a:t>
            </a:r>
            <a:r>
              <a:rPr b="1" lang="ro-RO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nume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ag </a:t>
            </a:r>
            <a:r>
              <a:rPr b="1" i="1" lang="ro-RO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curt</a:t>
            </a:r>
            <a:r>
              <a:rPr b="1" lang="ro-RO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tag </a:t>
            </a:r>
            <a:r>
              <a:rPr b="1" i="1" lang="ro-RO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id</a:t>
            </a:r>
            <a:r>
              <a:rPr b="1" lang="ro-RO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nume [atr1="val1" . . . atrn="valn" ]/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nume [atr1="val1" . . . atrn="valn" ]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in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nume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E2A7-46FA-4DAD-8A99-C69D5B342B73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7315200" y="649296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A6E45A35-25CA-4824-9AC2-5B9B25D110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XML definitions (2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0" y="45720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ll formed X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id X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ot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cap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&gt; " &amp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&amp;lt;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&amp;gt;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&amp;quot;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&amp;amp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&gt; " &amp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&amp;#60; &amp;62;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&amp;34;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&amp;38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&lt;![CDATA[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şir de caractere ignorat de parserul XM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]]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0493-3546-464C-B95D-15EDD8DF4B21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7315200" y="649296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5C78EEB2-D72F-43E0-97E0-2D1A3D4B19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XML definitions (3): namespaces default, explici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68580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ault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agRoot xmlns="URI_definire_spatiu_de_nume"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plicit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efix:tagRoot xmlns:prefix="URI_definire_spatiu_de_nume"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efinitions name="ProductService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Namespace="http://www.ecerami.com/wsdl/ProductService.wsdl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="http://schemas.xmlsoap.org/wsdl/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soap="http://schemas.xmlsoap.org/wsdl/soap/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tns="http://www.ecerami.com/wsdl/ProductService.wsdl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xsd="http://www.w3.org/2001/XMLSchema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xsd1="http://www.ecerami.com/schema"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Use: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efix:nu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… &gt;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- - 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prefix:nu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3B57-92E0-4C62-827D-8CE85FACBF8B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7315200" y="649296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21518AC0-13E5-473B-8B85-096E149C40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DTD (Data Type Definition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1295280"/>
            <a:ext cx="9144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!ELEMENT biblioteca (nume,domeniu+)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!ELEMENT domeniu (nume,carte*)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!ELEMENT nume (#PCDATA)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!ELEMENT carte (titlu,autor)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!ELEMENT titlu (#PCDATA)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!ELEMENT autor (#PCDATA)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!ELEMENT isbn (#PCDATA)&gt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!ATTLIST carte isbn CDATA "0"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4326-51C9-4AA3-B3B3-CA491E648029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7315200" y="649296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1072C4E8-9E0B-42A6-9BAE-18F598AE2B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XML Schem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0" y="363600"/>
            <a:ext cx="91440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xml version="1.0" encoding="ISO-8859-1"?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xs:schema xmlns:xs="http://www.w3.org/2001/XMLSchema"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xs:complexType name="TipCarte"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xs:sequenc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xs:element name="titlu" type="xs:string"/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xs:element name="autor" type="xs:string"/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xs:sequenc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xs:attribute name="isbn" type="xs:string"/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xs:complexTyp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xs:complexType name="TipDomeniu"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xs:sequenc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xs:element name="nume" type="xs:string"/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xs:element name="carte" type="TipCarte" minOccurs="0" maxOccurs="unbounded"/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xs:sequenc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xs:complexTyp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xs:complexType name="TipBiblioteca"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xs:sequenc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xs:element name="nume" type="xs:string"/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xs:element name="domeniu" type="TipDomeniu" minOccurs="1" maxOccurs="unbounded"/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xs:sequenc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xs:complexTyp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xs:element name="biblioteca" type="TipBiblioteca"/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xs:schema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A1DD-4CF6-4EEB-8D5F-53C1B4BAD0B7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7315200" y="649296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BAC016CD-9FA6-414B-9C66-E898405BAF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XSLT (eXtensible Stylesheet Language family Transformations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0" y="380880"/>
            <a:ext cx="914400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tml xsl:version="1.0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xsl="http://www.w3.org/1999/XSL/Transform"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ead&gt;&lt;title&gt;Lista biblioteci&lt;/title&gt;&lt;/head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ody&gt;&lt;table border="1"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xsl:for-each select="biblioteca/domeniu"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r&gt;&lt;td colspan="2"&gt;&lt;center&gt;&lt;em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xsl:value-of select="nume"/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em&gt;&lt;/center&gt;&lt;/td&gt;&lt;/tr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xsl:for-each select="carte"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d&gt;&lt;xsl:value-of select="titlu"/&gt;&lt;/td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d&gt;&lt;xsl:value-of select="autor"/&gt;&lt;/td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xsl:for-each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xsl:for-each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able&gt;&lt;/body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&lt;?xml version="1.0" encoding="ISO-8859-1"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&lt;!DOCTYPE biblioteca SYSTEM "biblioteca.dt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se va insera linia de indicare a transformării, adic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&lt;?xml version="1.0" encoding="ISO-8859-1"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                                       </a:t>
            </a:r>
            <a:r>
              <a:rPr b="0" lang="ro-RO" sz="1800" spc="-1" strike="noStrike">
                <a:solidFill>
                  <a:srgbClr val="c00000"/>
                </a:solidFill>
                <a:latin typeface="Calibri"/>
              </a:rPr>
              <a:t>&lt;?xml-stylesheet type="text/xsl" href="biblioteca.xsl"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&lt;!DOCTYPE biblioteca SYSTEM "biblioteca.dtd"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E7A5-4DA4-4A95-A38F-747E2FD5CD31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7315200" y="649296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6E2D275C-5C60-4A4A-9111-2EA1B7D619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Efect XST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6400800" cy="63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59EC-6787-4588-A594-13D1B0B0A9CC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7315200" y="649296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58E4416A-C2B5-478E-9B9B-3F8A5BDBC2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Parse SAX Pyth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0" y="38088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xml.sa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xml.sax.handl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Sax (xml.sax.handler.ContentHandler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isbn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isIsbn = 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isTitlu = 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isbn = isb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p = xml.sax.make_parser(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p.setContentHandler(self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p.parse("biblioteca.xml"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startElement(self, qName, attributes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qName == "carte"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attributes["isbn"] == self.isbn: self.isIsbn =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if self.isIsbn == 1 and qName == "titlu" : self.isTitlu =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characters(self, ch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self.isTitlu == 1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isTitlu = 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isIsbn = 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ax = Sax(sys.argv[1]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8791-17AF-4EEF-AF01-E8C7D472B711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lide Number Placeholder 4"/>
          <p:cNvSpPr/>
          <p:nvPr/>
        </p:nvSpPr>
        <p:spPr>
          <a:xfrm>
            <a:off x="7467480" y="6492960"/>
            <a:ext cx="1676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837419FC-1A73-4B8C-AB07-7DCE866311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Web resources (1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0" y="38088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RI, URN, UL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RI (Uniform Resource Identifier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RN (- // - Name) special URI semantic ID-r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RL (- // - Locator)  special URI semantic address-r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ML, X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ents (HTM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yles (C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ynamics (JavaScrip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T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ml Sch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sing (SAX, DO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late (XSL, XSL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SON (JavaScript Object Not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F7BF-494C-4FAD-93F1-6B5FDE4D486B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7315200" y="649296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5706EC62-47F8-430E-A3BB-2D67A54AB9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Parse DOM Pyth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0" y="91440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xml.dom.minid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xml.dom.minidom import No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ass Dom(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isbn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 = xml.dom.minidom.parse("biblioteca.xml"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carte in document.getElementsByTagName("carte"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not carte.getAttribute("isbn") == isbn: contin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itlu = carte.getElementsByTagName("titlu")[0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node in titlu.childNod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not node.nodeType == Node.TEXT_NODE: contin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node.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om = Dom(sys.argv[1]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D3E9-DCBE-43A1-BE53-3B8D9B356110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7315200" y="649296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9C12EDB5-B10A-42A6-9136-DAB55ED7A3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Exemple de parsari XML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523880" y="1397160"/>
          <a:ext cx="6096240" cy="22190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m.j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x.j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m.html (JavaScrip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m.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x.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m.ph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x.ph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m.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x.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29BF-6A07-4AE4-8385-66C2F458A869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7315200" y="649296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FBF7DB0F-D411-45FF-BBAE-DE827D5AF1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JSON (1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38088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nume": "Biblioteca personala"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domeniu": [ 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nume": "Informatica"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carte": [ 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isbn": "973-97535-5-8"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titlu": "De la aritmetica la calculatoare"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autor": "Boian Florian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,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isbn": "978-1-594-96-544-9"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titlu": "AJAX in lectii de 10 minute"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autor": "Ballard Phill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  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},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nume": "Poezie"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carte": [   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isbn": "973-95660-2-2"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titlu": "Poezii"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autor": "Octavian Goga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  ]  },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nume": "Sanscrita veche"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carte": [   ]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5896-DB22-4E72-8CFF-236A165E13D3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7315200" y="649296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F2ABFF81-F86B-4322-B5FE-DE7AA5BBF9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JSON (2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0" y="38088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000000"/>
                </a:solidFill>
                <a:latin typeface="Calibri"/>
              </a:rPr>
              <a:t>Număr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 – întreg sau flotan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000000"/>
                </a:solidFill>
                <a:latin typeface="Calibri"/>
              </a:rPr>
              <a:t>String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 – şir cuprins între ghilimele, iar caracterele speciale din şir sunt </a:t>
            </a:r>
            <a:r>
              <a:rPr b="0" i="1" lang="ro-RO" sz="2400" spc="-1" strike="noStrike">
                <a:solidFill>
                  <a:srgbClr val="000000"/>
                </a:solidFill>
                <a:latin typeface="Calibri"/>
              </a:rPr>
              <a:t>evitate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 folosind '\'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000000"/>
                </a:solidFill>
                <a:latin typeface="Calibri"/>
              </a:rPr>
              <a:t>Boolean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 – valorile true şi fals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nul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000000"/>
                </a:solidFill>
                <a:latin typeface="Calibri"/>
              </a:rPr>
              <a:t>Obiect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 – colecţie neordonată cuprinsă între ghilimele ({ . . . }), de perechi </a:t>
            </a:r>
            <a:r>
              <a:rPr b="0" i="1" lang="ro-RO" sz="2400" spc="-1" strike="noStrike">
                <a:solidFill>
                  <a:srgbClr val="000000"/>
                </a:solidFill>
                <a:latin typeface="Calibri"/>
              </a:rPr>
              <a:t>nume: valoare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, separate prin virgul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000000"/>
                </a:solidFill>
                <a:latin typeface="Calibri"/>
              </a:rPr>
              <a:t>Array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 – colecţie ordonată cuprinsă între paranteze drepte ([ . . . ]) de valori separate prin virgul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capes: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\” \\ \/ \b \f \n \r \t \uhhh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6ED7-8E65-42A2-AA65-A08C35C3F043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7315200" y="649296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C96068EF-609C-41C3-80B2-C2710BC7FA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666880" y="1905120"/>
            <a:ext cx="3810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intaxa JSON (1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2" descr="D:\Florin\Carti\SWMPA\00Http\Sources\JSON\JSON_files\object.gif"/>
          <p:cNvPicPr/>
          <p:nvPr/>
        </p:nvPicPr>
        <p:blipFill>
          <a:blip r:embed="rId1"/>
          <a:stretch/>
        </p:blipFill>
        <p:spPr>
          <a:xfrm>
            <a:off x="1219320" y="533520"/>
            <a:ext cx="5695920" cy="10760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D:\Florin\Carti\SWMPA\00Http\Sources\JSON\JSON_files\array.gif"/>
          <p:cNvPicPr/>
          <p:nvPr/>
        </p:nvPicPr>
        <p:blipFill>
          <a:blip r:embed="rId2"/>
          <a:stretch/>
        </p:blipFill>
        <p:spPr>
          <a:xfrm>
            <a:off x="1371600" y="2209680"/>
            <a:ext cx="5695920" cy="10764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D:\Florin\Carti\SWMPA\00Http\Sources\JSON\JSON_files\value.gif"/>
          <p:cNvPicPr/>
          <p:nvPr/>
        </p:nvPicPr>
        <p:blipFill>
          <a:blip r:embed="rId3"/>
          <a:stretch/>
        </p:blipFill>
        <p:spPr>
          <a:xfrm>
            <a:off x="1371600" y="3886200"/>
            <a:ext cx="569592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2091-C836-48B7-A451-27BC81C84D53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7315200" y="649296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CA38DA28-8B6F-4BB5-8BAD-6B7ACAB13B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intaxa JSON (2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2" descr="D:\Florin\Carti\SWMPA\00Http\Sources\JSON\JSON_files\string.gif"/>
          <p:cNvPicPr/>
          <p:nvPr/>
        </p:nvPicPr>
        <p:blipFill>
          <a:blip r:embed="rId1"/>
          <a:stretch/>
        </p:blipFill>
        <p:spPr>
          <a:xfrm>
            <a:off x="1371600" y="609480"/>
            <a:ext cx="5105520" cy="35258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D:\Florin\Carti\SWMPA\00Http\Sources\JSON\JSON_files\number.gif"/>
          <p:cNvPicPr/>
          <p:nvPr/>
        </p:nvPicPr>
        <p:blipFill>
          <a:blip r:embed="rId2"/>
          <a:stretch/>
        </p:blipFill>
        <p:spPr>
          <a:xfrm>
            <a:off x="1523880" y="4572000"/>
            <a:ext cx="478152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7464-5E01-428A-BFD1-FE9C32B11FE3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7315200" y="649296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8F58661C-74B2-4948-BAC6-C18163F777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Processing JS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0" y="6094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js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Jso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isbn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inut = "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d = open("biblioteca.json"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1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nie = fd.readline(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not linie: brea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inut += linie.strip(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d.close(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 = json.loads(continu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domeniu in document["domeniu"]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carte in domeniu["carte"]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not carte["isbn"] == isbn: contin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carte["titlu"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j = Json(sys.argv[1]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C7B2-84AE-4A47-862C-3FF93A9B02BE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7315200" y="649296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44BB41A0-962B-4140-B1EC-637EC51E50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Exemple de procesari JS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523880" y="1397160"/>
          <a:ext cx="3505320" cy="1854000"/>
        </p:xfrm>
        <a:graphic>
          <a:graphicData uri="http://schemas.openxmlformats.org/drawingml/2006/table">
            <a:tbl>
              <a:tblPr/>
              <a:tblGrid>
                <a:gridCol w="35053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SON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son.html (JavaScrip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son.j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son.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son.ph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7090-DEB4-4585-9DB7-1E803F8DA418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7315200" y="649296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2FB2E174-4DF6-4B0B-A34B-E4240D57D9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ransport de resurse (trazactie) HTT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6" name="Object 1"/>
          <p:cNvGraphicFramePr/>
          <p:nvPr/>
        </p:nvGraphicFramePr>
        <p:xfrm>
          <a:off x="23760" y="609480"/>
          <a:ext cx="9010800" cy="33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60" y="609480"/>
                    <a:ext cx="9010800" cy="33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TextBox 9"/>
          <p:cNvSpPr/>
          <p:nvPr/>
        </p:nvSpPr>
        <p:spPr>
          <a:xfrm>
            <a:off x="228600" y="4038480"/>
            <a:ext cx="861048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plus,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HTTP/1.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Acceptarea de cereri şi răspunsuri pe </a:t>
            </a:r>
            <a:r>
              <a:rPr b="0" i="1" lang="ro-RO" sz="2000" spc="-1" strike="noStrike">
                <a:solidFill>
                  <a:srgbClr val="000000"/>
                </a:solidFill>
                <a:latin typeface="Calibri"/>
              </a:rPr>
              <a:t>fragmente (chunks)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losind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"subtranzacţii"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uport pentru stabilirea de </a:t>
            </a:r>
            <a:r>
              <a:rPr b="0" i="1" lang="ro-RO" sz="2000" spc="-1" strike="noStrike">
                <a:solidFill>
                  <a:srgbClr val="000000"/>
                </a:solidFill>
                <a:latin typeface="Calibri"/>
              </a:rPr>
              <a:t>conexiune permanentă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mai multe cereri pe conexiu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trarea resurselor solicita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If-Modified-Since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If-Unmodified-Since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21F1-1407-4B41-AFA6-58E216E7F414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7315200" y="649296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244F574B-261F-4270-B79D-BC9506F0B6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erere si raspuns HTT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9"/>
          <p:cNvSpPr/>
          <p:nvPr/>
        </p:nvSpPr>
        <p:spPr>
          <a:xfrm>
            <a:off x="0" y="380880"/>
            <a:ext cx="6324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b050"/>
                </a:solidFill>
                <a:latin typeface="Calibri"/>
              </a:rPr>
              <a:t>POST /cgi-bin/Cgi.cgi HTTP/1.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2060"/>
                </a:solidFill>
                <a:latin typeface="Calibri"/>
              </a:rPr>
              <a:t>Accept: text/plain, text/html, image/gif, image/x-xbitmap, image/jpe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2060"/>
                </a:solidFill>
                <a:latin typeface="Calibri"/>
              </a:rPr>
              <a:t>From: nustiucine@nicideunde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2060"/>
                </a:solidFill>
                <a:latin typeface="Calibri"/>
              </a:rPr>
              <a:t>Accept-Language: 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2060"/>
                </a:solidFill>
                <a:latin typeface="Calibri"/>
              </a:rPr>
              <a:t>Accept-Encoding: gzip, defl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2060"/>
                </a:solidFill>
                <a:latin typeface="Calibri"/>
              </a:rPr>
              <a:t>User-Agent: Mozilla/4.0 (compatible; MSIE 6.0; Windows NT 5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2060"/>
                </a:solidFill>
                <a:latin typeface="Calibri"/>
              </a:rPr>
              <a:t>Host: florin:8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2060"/>
                </a:solidFill>
                <a:latin typeface="Calibri"/>
              </a:rPr>
              <a:t>Connection: Keep-Al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2060"/>
                </a:solidFill>
                <a:latin typeface="Calibri"/>
              </a:rPr>
              <a:t>Login=unUserOarecare&amp;Password%3A=oParolaInCl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10"/>
          <p:cNvSpPr/>
          <p:nvPr/>
        </p:nvSpPr>
        <p:spPr>
          <a:xfrm>
            <a:off x="2819520" y="3718080"/>
            <a:ext cx="4647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b050"/>
                </a:solidFill>
                <a:latin typeface="Calibri"/>
              </a:rPr>
              <a:t>HTTP/1.1 200 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0000"/>
                </a:solidFill>
                <a:latin typeface="Calibri"/>
              </a:rPr>
              <a:t>Server: Microsoft IIS/4.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0000"/>
                </a:solidFill>
                <a:latin typeface="Calibri"/>
              </a:rPr>
              <a:t>Date: Mon, 24 Nov 2003 11:07:32 GM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0000"/>
                </a:solidFill>
                <a:latin typeface="Calibri"/>
              </a:rPr>
              <a:t>Content-type: text/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0000"/>
                </a:solidFill>
                <a:latin typeface="Calibri"/>
              </a:rPr>
              <a:t>Last Modified: Sun, 23 Nov 2003 11:07:32 GM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0000"/>
                </a:solidFill>
                <a:latin typeface="Calibri"/>
              </a:rPr>
              <a:t>Content-Length: 7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0000"/>
                </a:solidFill>
                <a:latin typeface="Calibri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0000"/>
                </a:solidFill>
                <a:latin typeface="Calibri"/>
              </a:rPr>
              <a:t>&lt;HEAD&gt;&lt;TITLE&gt;Prima pagina&lt;/TITLE&gt;&lt;/HEAD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0000"/>
                </a:solidFill>
                <a:latin typeface="Calibri"/>
              </a:rPr>
              <a:t>&lt;BODY&gt;Salut&lt;/BODY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0000"/>
                </a:solidFill>
                <a:latin typeface="Calibri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9BB1-C140-446A-B0D3-67CB34824AFA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4"/>
          <p:cNvSpPr/>
          <p:nvPr/>
        </p:nvSpPr>
        <p:spPr>
          <a:xfrm>
            <a:off x="7467480" y="6492960"/>
            <a:ext cx="1676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FD24E244-A8D7-45E3-BEDE-F7D91CDB35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Web resources (2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238880" cy="61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B038-9015-46C5-9DBB-CF06EA5CDBAC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7315200" y="649296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63991694-000E-45AD-BF40-45A5D7C0FD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Prima linie cerere, prima linie raspu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6"/>
          <p:cNvSpPr/>
          <p:nvPr/>
        </p:nvSpPr>
        <p:spPr>
          <a:xfrm>
            <a:off x="0" y="380880"/>
            <a:ext cx="784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&lt;NumeMetoda&gt;   &lt;CaleSauURL&gt;   &lt;VersiuneHTTP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70c0"/>
                </a:solidFill>
                <a:latin typeface="Calibri"/>
              </a:rPr>
              <a:t>GET /cale/spre/fisier/index.html HTTP/1.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70c0"/>
                </a:solidFill>
                <a:latin typeface="Calibri"/>
              </a:rPr>
              <a:t>GET /cale/spre/fisier/index.html HTTP/1.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70c0"/>
                </a:solidFill>
                <a:latin typeface="Calibri"/>
              </a:rPr>
              <a:t>GET http://www.cs.ubbcluj.ro/home/studenti/note.html HTTP/1.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70c0"/>
                </a:solidFill>
                <a:latin typeface="Calibri"/>
              </a:rPr>
              <a:t>POST /cgi-bin/Cgi.cgi HTTP/1.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9"/>
          <p:cNvSpPr/>
          <p:nvPr/>
        </p:nvSpPr>
        <p:spPr>
          <a:xfrm>
            <a:off x="533520" y="2514600"/>
            <a:ext cx="8076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&lt;VersiuneHTTP&gt;   &lt;CodRăspuns&gt;   &lt;StringRăspuns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70c0"/>
                </a:solidFill>
                <a:latin typeface="Calibri"/>
              </a:rPr>
              <a:t>HTTP/1.0 200 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70c0"/>
                </a:solidFill>
                <a:latin typeface="Calibri"/>
              </a:rPr>
              <a:t>HTTP/1.1 200 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70c0"/>
                </a:solidFill>
                <a:latin typeface="Calibri"/>
              </a:rPr>
              <a:t>HTTP/1.0 404 Not F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70c0"/>
                </a:solidFill>
                <a:latin typeface="Calibri"/>
              </a:rPr>
              <a:t>HTTP/1.1 100 Contin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70c0"/>
                </a:solidFill>
                <a:latin typeface="Calibri"/>
              </a:rPr>
              <a:t>HTTP/1.1 304 Not Modifi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70c0"/>
                </a:solidFill>
                <a:latin typeface="Calibri"/>
              </a:rPr>
              <a:t>HTTP/1.1 500 Server Err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70c0"/>
                </a:solidFill>
                <a:latin typeface="Calibri"/>
              </a:rPr>
              <a:t>HTTP/1.1 501 Not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CodRăspun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o-RO" sz="1800" spc="-1" strike="noStrike">
                <a:solidFill>
                  <a:srgbClr val="000000"/>
                </a:solidFill>
                <a:latin typeface="Calibri"/>
              </a:rPr>
              <a:t>categori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1XX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indică numai </a:t>
            </a:r>
            <a:r>
              <a:rPr b="0" i="1" lang="ro-RO" sz="1800" spc="-1" strike="noStrike">
                <a:solidFill>
                  <a:srgbClr val="000000"/>
                </a:solidFill>
                <a:latin typeface="Calibri"/>
              </a:rPr>
              <a:t>mesaje de informare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2XX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indică </a:t>
            </a:r>
            <a:r>
              <a:rPr b="0" i="1" lang="ro-RO" sz="1800" spc="-1" strike="noStrike">
                <a:solidFill>
                  <a:srgbClr val="000000"/>
                </a:solidFill>
                <a:latin typeface="Calibri"/>
              </a:rPr>
              <a:t>mesaje de succes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3XX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indică </a:t>
            </a:r>
            <a:r>
              <a:rPr b="0" i="1" lang="ro-RO" sz="1800" spc="-1" strike="noStrike">
                <a:solidFill>
                  <a:srgbClr val="000000"/>
                </a:solidFill>
                <a:latin typeface="Calibri"/>
              </a:rPr>
              <a:t>redirectarea clientului către un alt URL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4XX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indică </a:t>
            </a:r>
            <a:r>
              <a:rPr b="0" i="1" lang="ro-RO" sz="1800" spc="-1" strike="noStrike">
                <a:solidFill>
                  <a:srgbClr val="000000"/>
                </a:solidFill>
                <a:latin typeface="Calibri"/>
              </a:rPr>
              <a:t>erori pe partea de client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5XX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indică </a:t>
            </a:r>
            <a:r>
              <a:rPr b="0" i="1" lang="ro-RO" sz="1800" spc="-1" strike="noStrike">
                <a:solidFill>
                  <a:srgbClr val="000000"/>
                </a:solidFill>
                <a:latin typeface="Calibri"/>
              </a:rPr>
              <a:t>erori pe partea de server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DD88-54D2-44C9-AB6B-D031A003AAD0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4"/>
          <p:cNvSpPr/>
          <p:nvPr/>
        </p:nvSpPr>
        <p:spPr>
          <a:xfrm>
            <a:off x="7315200" y="649296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6380AFA1-9E52-4284-89F9-F668C137EC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HTTP heade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0" y="380880"/>
          <a:ext cx="7772400" cy="1954440"/>
        </p:xfrm>
        <a:graphic>
          <a:graphicData uri="http://schemas.openxmlformats.org/drawingml/2006/table">
            <a:tbl>
              <a:tblPr/>
              <a:tblGrid>
                <a:gridCol w="1481040"/>
                <a:gridCol w="6291360"/>
              </a:tblGrid>
              <a:tr h="18252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ader gene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scrie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4452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ent-B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L-ul de bază folosit pentru rezolvarea URL-urilor relative din interiorul corpului mesajulu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58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ccept-Enco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purile de codificări accept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58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ent-Langu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l mai potrivit limbaj pentru înţelegerea corpului mesajulu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58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ent-Leng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ungimea corpului mesajulu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548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ent-Lo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cul unde este localizată resurs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440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ent-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pul MIME în care este codificat corpul mesajulu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2514600" y="2286000"/>
          <a:ext cx="6629400" cy="2057400"/>
        </p:xfrm>
        <a:graphic>
          <a:graphicData uri="http://schemas.openxmlformats.org/drawingml/2006/table">
            <a:tbl>
              <a:tblPr/>
              <a:tblGrid>
                <a:gridCol w="1117440"/>
                <a:gridCol w="5511960"/>
              </a:tblGrid>
              <a:tr h="209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re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rie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11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ient-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resa maşinii clien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09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r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resa email a userului clien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0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ele maşinii server şi portul la care aşteaptă acesta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fer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L-ul documentului care conţine URI-ul de la care s-a lansat cerere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0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UA-Dis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aţii despre caracteristicile display-ului maşinii clien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1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UA-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stemul de operare (şi versiunea lui) pe care rulează maşina client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1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UA-Pixe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aţiii privind pixelii display-ului clien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09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User-Ag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ele procesului client (browser) de la care s-a făcut cerere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0" y="4419720"/>
          <a:ext cx="7924680" cy="2133360"/>
        </p:xfrm>
        <a:graphic>
          <a:graphicData uri="http://schemas.openxmlformats.org/drawingml/2006/table">
            <a:tbl>
              <a:tblPr/>
              <a:tblGrid>
                <a:gridCol w="1650960"/>
                <a:gridCol w="6273720"/>
              </a:tblGrid>
              <a:tr h="266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ăspu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rie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66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 şi ora GMT a cerer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66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st-Modifi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 ultimei modificări a unei resurse fişi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6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chimea răspunsulu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66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ubl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sta metodelor de cerere suportate de server pentru această resurs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6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try-Af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indică un moment la care se reîncearcă furnizarea resursei, dacă ea nu este momentan disponibil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66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r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ele şi versiunea serverului Web (de aplicaţie), eventual şinumele sistemului de operare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6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tlul din antetul documentului HTML întor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6F4B-D4DE-4436-A94E-174A15C44E21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4"/>
          <p:cNvSpPr/>
          <p:nvPr/>
        </p:nvSpPr>
        <p:spPr>
          <a:xfrm>
            <a:off x="7315200" y="649296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B91EA5E8-6AE3-4C87-ABAA-43368E98C6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HTTP MIME typ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6" descr=""/>
          <p:cNvPicPr/>
          <p:nvPr/>
        </p:nvPicPr>
        <p:blipFill>
          <a:blip r:embed="rId1"/>
          <a:stretch/>
        </p:blipFill>
        <p:spPr>
          <a:xfrm>
            <a:off x="1905120" y="457200"/>
            <a:ext cx="4495680" cy="1181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7" name=""/>
          <p:cNvGraphicFramePr/>
          <p:nvPr/>
        </p:nvGraphicFramePr>
        <p:xfrm>
          <a:off x="152280" y="1828800"/>
          <a:ext cx="8763120" cy="4648320"/>
        </p:xfrm>
        <a:graphic>
          <a:graphicData uri="http://schemas.openxmlformats.org/drawingml/2006/table">
            <a:tbl>
              <a:tblPr/>
              <a:tblGrid>
                <a:gridCol w="990720"/>
                <a:gridCol w="3886200"/>
                <a:gridCol w="3886200"/>
              </a:tblGrid>
              <a:tr h="258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ip fiş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IME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ţin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57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xt/pl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xt ASC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58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v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ideo/x-msvid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şier vid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8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pplication/octet-stre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d binar folosit în aplicaţ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57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g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pplication/x-www-form-urlenco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ţinut prelucrabil de un program (script) CG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8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o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pplication/msw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ument MS W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58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t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pplication/xml-dt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riptor DT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7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x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pplication/octet-stre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d binar folosit în aplicaţ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58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t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xt/ht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ument HT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8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mage/p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şier imag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57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jp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mage/jp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şier imag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8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p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udio/mp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şier aud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58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pplication/p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ument P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7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pplication/postscri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ument postscri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58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x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xt/pl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şier tex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8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pplication/vnd.ms-exc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ument exc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57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pplication/x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ument X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8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z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pplication/z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hivă z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E738-0D21-4C39-8D12-B22B8AE95C49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4"/>
          <p:cNvSpPr/>
          <p:nvPr/>
        </p:nvSpPr>
        <p:spPr>
          <a:xfrm>
            <a:off x="7315200" y="649296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BC15619A-9C39-4F71-88C3-33F25BF5DC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HTTP Method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228600" y="609480"/>
          <a:ext cx="8763120" cy="5454720"/>
        </p:xfrm>
        <a:graphic>
          <a:graphicData uri="http://schemas.openxmlformats.org/drawingml/2006/table">
            <a:tbl>
              <a:tblPr/>
              <a:tblGrid>
                <a:gridCol w="762120"/>
                <a:gridCol w="914400"/>
                <a:gridCol w="1066680"/>
                <a:gridCol w="4419720"/>
                <a:gridCol w="1600200"/>
              </a:tblGrid>
              <a:tr h="596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peraţ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etoda HTT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peraţie SQ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în Baz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xplicat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lit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95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S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rea unei noi resurs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L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e resursa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de la URI-ul specifica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0" i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ăspuns reprezentarea resursei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fe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mpo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4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p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P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r>
                        <a:rPr b="0" i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tualizarea unei resurse deja exist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mpo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6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r>
                        <a:rPr b="0" i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rgerea resurse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mpo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e </a:t>
                      </a:r>
                      <a:r>
                        <a:rPr b="0" i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ai antetul resurse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fe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mpo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6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agnostic, copii ale rezultatelor altor cere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6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N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xiuni speciale folosind prox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3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toarce 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etodelor HTTP posib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f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EAD3-A724-4CC3-A08D-ACC85B11AF78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7315200" y="649296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173FE877-8064-4E37-BCE8-EC5D7C123A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HTTP: prezentare generala 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9" descr="questionmark.jpg"/>
          <p:cNvPicPr/>
          <p:nvPr/>
        </p:nvPicPr>
        <p:blipFill>
          <a:blip r:embed="rId1"/>
          <a:stretch/>
        </p:blipFill>
        <p:spPr>
          <a:xfrm>
            <a:off x="1752480" y="609480"/>
            <a:ext cx="5562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9545-F31F-489B-9E7E-C36172F93A2F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4"/>
          <p:cNvSpPr/>
          <p:nvPr/>
        </p:nvSpPr>
        <p:spPr>
          <a:xfrm>
            <a:off x="7315200" y="649296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A1B17285-BE0F-48CE-9E71-471B44A83F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ITL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BE7A7-9670-4AF6-AACC-A4F4C322ED2D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4"/>
          <p:cNvSpPr/>
          <p:nvPr/>
        </p:nvSpPr>
        <p:spPr>
          <a:xfrm>
            <a:off x="7467480" y="6492960"/>
            <a:ext cx="1676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B0677C5F-F6F8-4AB8-A1AB-05BA706616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URI, URN, UR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580320" y="685800"/>
            <a:ext cx="702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ach web server resource has a name, so clients can point out what resources the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re interested in. This resource name is called a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uniform resource identifier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or URI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228600" y="1448640"/>
            <a:ext cx="8763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uniform resource locator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(URL) is the most common form of resource identifier. URLs describe the specific location of a resource on a particular server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RLs specify protocol, server, and local resourc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8" descr=""/>
          <p:cNvPicPr/>
          <p:nvPr/>
        </p:nvPicPr>
        <p:blipFill>
          <a:blip r:embed="rId1"/>
          <a:stretch/>
        </p:blipFill>
        <p:spPr>
          <a:xfrm>
            <a:off x="1219320" y="2514600"/>
            <a:ext cx="6781680" cy="26305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9"/>
          <p:cNvSpPr/>
          <p:nvPr/>
        </p:nvSpPr>
        <p:spPr>
          <a:xfrm>
            <a:off x="561240" y="5563440"/>
            <a:ext cx="699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 second flavor of URI is the </a:t>
            </a:r>
            <a:r>
              <a:rPr b="0" i="1" lang="en-GB" sz="1600" spc="-1" strike="noStrike">
                <a:solidFill>
                  <a:srgbClr val="000000"/>
                </a:solidFill>
                <a:latin typeface="Calibri"/>
              </a:rPr>
              <a:t>uniform resource nam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, or URN. A URN serves as 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unique name for a particular piece of content, independent of where the resour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urrently resides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URNs are still experimental and not yet widely adopted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BC21-037A-442D-83BD-78C5D351D6D4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7467480" y="6492960"/>
            <a:ext cx="1676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99291C7F-65F9-4989-A7D7-BFA3DF4605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URI, URN, URL (2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0" y="762120"/>
            <a:ext cx="9144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&lt;protocol&gt;:[&lt;user&gt;@]&lt;host&gt;[:&lt;port&gt;][&lt;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th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&gt;][?&lt;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est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&gt;][#&lt;fragment&gt;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ttp://www.ubbcluj.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ttp://www.ubbcluj.ro/cluj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ttp://www.scs.ubbcluj.ro:8080/calcul/index.jsp?nr1=50&amp;sir1=Ceva&amp;nr2=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ttp://www.scs.ubbcluj.ro:8080/calcul/medie?nr1=50&amp;sir1=Ceva&amp;nr2=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http://www.cs.ubbcluj.ro/~florin/SO/index.html#ultimu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http://en.wikipedia.org/wiki/URI#Examples_of_URI_refer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ile:/d:/agenda/departament/fisier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ile://home/cs/florin/Socket.pd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tp://ftp.netscape.com/pub/Linux/she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ilto:pop@scs.ubbcluj.ro?subject=Test&amp;body=Salut%oAtinere%20interna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rts: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20 – FT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e,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21 – FT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rol,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25 – SMT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37 – TIM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80 – HTT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443 – HTTP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1099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mplate: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http://www.serv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/user/{userid}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http://www.serv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/users/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sd0157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8F92-5CB8-4B7C-859D-B793AA95CB78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4"/>
          <p:cNvSpPr/>
          <p:nvPr/>
        </p:nvSpPr>
        <p:spPr>
          <a:xfrm>
            <a:off x="7467480" y="6492960"/>
            <a:ext cx="1676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6956AC24-89AC-4FFF-9FFA-ED9B20935B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380880"/>
            <a:ext cx="6832440" cy="6477120"/>
          </a:xfrm>
          <a:prstGeom prst="rect">
            <a:avLst/>
          </a:prstGeom>
          <a:ln w="0">
            <a:noFill/>
          </a:ln>
        </p:spPr>
      </p:pic>
      <p:sp>
        <p:nvSpPr>
          <p:cNvPr id="79" name="TextBox 12"/>
          <p:cNvSpPr/>
          <p:nvPr/>
        </p:nvSpPr>
        <p:spPr>
          <a:xfrm>
            <a:off x="7086600" y="533520"/>
            <a:ext cx="16002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Calibri"/>
              </a:rPr>
              <a:t>Mozilla Firefox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Calibri"/>
              </a:rPr>
              <a:t>Internet Explorer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Calibri"/>
              </a:rPr>
              <a:t>Oper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Calibri"/>
              </a:rPr>
              <a:t>Safari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Calibri"/>
              </a:rPr>
              <a:t>Google Chrom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Calibri"/>
              </a:rPr>
              <a:t>KDE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e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HTML, XHTML, Browse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67D9-B9C2-46C9-8682-D5229D3BC2C6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4"/>
          <p:cNvSpPr/>
          <p:nvPr/>
        </p:nvSpPr>
        <p:spPr>
          <a:xfrm>
            <a:off x="7467480" y="6492960"/>
            <a:ext cx="1676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FA752C96-9323-4C79-A60F-614EEBD04B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(X)HTML source (1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0" y="380880"/>
            <a:ext cx="9144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xml version="1.0"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!DOCTYPE html PUBLIC "-//W3C//DTD XHTML 1.0 Transitional//EN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http://www.w3.org/TR/xhtml1/DTD/xhtml1-transitional.dtd"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tml xmlns="http://www.w3.org/1999/xhtml"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ead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itle&gt;Primul document XHTML&lt;/titl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link rel="stylesheet" rev="stylesheet" href="forma.css" /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cript src="rotire.js" type="text/javascript" language="javascript"&gt;&lt;/scrip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1&gt;Primul exemplu XHTML&lt;/h1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abl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d&gt;&lt;img src="ubb.jpg"/&gt;&lt;/td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d&gt;&lt;img src="gb.jpg" id="poze"/&gt;&lt;/td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d&gt;Universitatea Babes-Bolyai&lt;/td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d&gt;Imagini panoramice din Cluj&lt;/td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E6A8-C025-4AE8-893D-76CCC9301052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7467480" y="6492960"/>
            <a:ext cx="1676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C677433D-7FD8-49A6-9E17-452C8241B6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(X)HTML (2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0" y="38088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cesta este un document minimal XHTM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 arata structura de baza si conceptul de ancor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entru informatii&lt;br/&gt; suplimentare despre XHTML se poate consult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 href="http://www.w3.org/TR/xhtml11/"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ezentare XHTML&lt;/a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aca doriti sa trimiteti un E-mail persoanei care 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ris acest fisier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a rog sa o facet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ddress&gt; Reperele persoanei sunt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 href = "http://cs.ubbcluj.ro/~florin"&gt;pagina personala&lt;/a&gt; s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 href = "mailto:florin@cs.ubbcluj.ro"&gt;email&lt;/a&gt;. &lt;br/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address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&gt;Remarcati diferentele intre modul de scri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 XHTML si ceea ce apare pe ecr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b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28C1-AA0C-456E-9E69-E9417D1EFBA3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7467480" y="6492960"/>
            <a:ext cx="1676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385B793A-2235-4367-ACD2-0DD6E652F4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SS sour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0" y="380880"/>
            <a:ext cx="91440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ody 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ackground-color:yellow 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lor: black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nt-size: 20px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nt-family: "Lucida Grande", Verdana, Arial, Helvetica, sans-serif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1 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nt-size: 28px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-align: center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able 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order-collapse: collapse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d 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dding: 10px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order: 2px #666 solid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-align: center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nt-size: 24px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mg 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idth:300px; height:125px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05:05:29Z</dcterms:created>
  <dc:creator>florin</dc:creator>
  <dc:description/>
  <dc:language>en-US</dc:language>
  <cp:lastModifiedBy>Florin_Boian</cp:lastModifiedBy>
  <dcterms:modified xsi:type="dcterms:W3CDTF">2010-03-18T16:43:04Z</dcterms:modified>
  <cp:revision>44</cp:revision>
  <dc:subject/>
  <dc:title>HTTP: prezentare generala</dc:title>
</cp:coreProperties>
</file>