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C3F-ADA1-467C-88FF-A5D0464A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D2A-B938-4A9C-A5AE-B61BE6D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241-8F26-4327-BBB8-987B8DA1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92B-021B-4E48-A7BA-C6049FAF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8380-E148-4D58-BA4F-7C4CF84F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B08-B711-443B-A115-13583270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4ADF-2903-40BC-93F5-1E1E57F2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05A9-F305-4132-98E5-8461F4E8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7D2-C258-4D82-9400-A14E3880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7188-2A91-40FE-A574-1B9D7BF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DB98-24B6-4D30-AC6A-54A64DFF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224-76D4-48B5-87F2-ACF00AA8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82DB-2174-4D1A-899F-A3948A03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B89F-B987-487E-83A5-8387A35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EC6E-9A5E-4BF1-980F-5AA9C573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C8C8-586A-4CC0-8648-DFCE147C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0566-14E4-495C-93C0-7D8CDDE1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00E-109D-4CEE-ACC6-60784C54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D13-A7BB-4329-B858-8CE967EB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CF3-5E15-4799-98CF-CD5D94D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A16-6DC1-44E0-86D3-12D8CAC1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283-61CC-4F03-BC7E-E809217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0FF-20B0-4387-AADB-E9170F5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85E-6D23-4338-82E5-F1E7A6D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F149-ED60-4918-AC7B-81CC62456329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3AA7-7EF1-4E53-8AD8-55814CF15D50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go.rdsor.ro/concurs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Farkas Gyula Szakkollégium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Első informatika feladat megoldá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Második informatika feladat kijelenté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Tahoma"/>
              </a:rPr>
              <a:t>Pătcaş Csab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indenki m</a:t>
            </a: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ásképp csinálja..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Az első számjegy meghatározására egy, az eddigiektől különböző módszerrel is találkoztam két megoldásban </a:t>
            </a:r>
            <a:r>
              <a:rPr b="1" lang="hu-HU" sz="3200" spc="-1" strike="noStrike">
                <a:solidFill>
                  <a:srgbClr val="eaeaea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616120" y="4248000"/>
                <a:ext cx="33451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Megjegyzések (kérések)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A bemeneti állomány az aktuális alkönyvtárban található, útvonal nélkül adjuk meg, tehát nem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‘c:\fakt.in’, hanem ‘fakt.in’</a:t>
            </a: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A bemenet állományból történik, nem billentyűzetrő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Kérem a bemenet és a kimenet specifikációját betartan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scal programoz</a:t>
            </a: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ók, kompilálási direktívákat tegyék be (Ctrl O + O), több program is leállt Range Check Error-al, legalább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{$R-,Q-} legyen a programunk elej</a:t>
            </a: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én (ez a sebességen is sokat javí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Egy feladathoz egy állományt várok, ne kelljen két állományból összeszedjem az eredmények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Times New Roman"/>
              </a:rPr>
              <a:t>Nem exe-ket várok, forráskódok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Tesztek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95280" y="1905120"/>
          <a:ext cx="674208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05120"/>
                    <a:ext cx="6742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Statisztik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Összesen 8 megoldás érkezett, ebbő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4 tökélet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Elért átlagpontszám 89.33 po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z első számjegy meghatározásá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3-an a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2)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 módszert, 2-en brute force módszert, 2-en az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5)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 módszert használtá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 számjegyek számának meghatározásá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4-en az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1)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 módszert használták, a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4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), a (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2) 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és a brute force módszert egy-egy versenyző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Pontszámok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03560" y="2089080"/>
          <a:ext cx="4733640" cy="295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3560" y="2089080"/>
                    <a:ext cx="473364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Applikáció pontszámok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447920" y="2514600"/>
          <a:ext cx="6018120" cy="26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14600"/>
                    <a:ext cx="60181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Összpontszám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819520" y="2286000"/>
          <a:ext cx="3429000" cy="333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86000"/>
                    <a:ext cx="34290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2. Feladat (150 pont)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A mocsar.in állomány első sorában adottak 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lt;=N,M&lt;=100 sz</a:t>
            </a: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ámok, melyek egy mátrix sorainak, illetve oszlopainak számát jelölik. A következő N sor mindegyikében M szám található szóközzel elválasztva, melyek értéke 0 vagy 1 lehet. Ez a mátrix egy mocsár térképét írja le, a 0 mocsaras vidéket, az 1 száraz területet jelö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2. Feladat (150 pont)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 feladatunk lefedni a mocsarat minél több 1x2-es méretű betonlapokkal, tehát a lefedés után fennmaradó mocsaras vidékek száma a minimális kell legyen. A betonlapokat elforgathatjuk. A mocsar.out állomány első sorába írjuk ki a lefektetett betonlapok számát, majd a következő sorokba minden betonlap által elfoglalt pozíciók koordinátáit, soronként négy számot, melyek rendre a sor és oszlop koordinátái az adott betonlap által lefedett két mezőne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Péld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Mocsar.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4 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0 0 1 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0 0 0 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0 1 0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 1 1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csar.ou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 1 1 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 1 2 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 3 2 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3 3 3 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Time Limit : 1 mp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Az első feladat kijelentés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A FAKT.IN állományból olvassuk be a 0&lt;=N&lt;=100000 egész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zámot. A FAKT.OUT állományba írassuk ki rendre N! első számjegyét, utolsó</a:t>
            </a: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 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zámjegyét és számjegyeinek számá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Pelda: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FAKT.IN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5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FAKT.</a:t>
            </a: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1 0 3</a:t>
            </a:r>
            <a:br>
              <a:rPr sz="2000"/>
            </a:br>
            <a:r>
              <a:rPr b="0" i="1" lang="en-GB" sz="2000" spc="-1" strike="noStrike">
                <a:solidFill>
                  <a:srgbClr val="eaeaea"/>
                </a:solidFill>
                <a:latin typeface="Times New Roman"/>
              </a:rPr>
              <a:t>Time Limit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: 1 sec.</a:t>
            </a:r>
            <a:br>
              <a:rPr sz="2000"/>
            </a:br>
            <a:r>
              <a:rPr b="0" i="1" lang="en-GB" sz="2000" spc="-1" strike="noStrike">
                <a:solidFill>
                  <a:srgbClr val="eaeaea"/>
                </a:solidFill>
                <a:latin typeface="Times New Roman"/>
              </a:rPr>
              <a:t>Pontozá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: a kimeneti állománybeli számok helyes értéke rendre 40%, 10% és</a:t>
            </a: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 5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0%-át jelentik a pontszámnak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Történelmi áttekinté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N! számjegyeinek számának meghatározása már klasszikus feladatnak számít, először az 1997-es Balkán Olimpián jelent me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97-be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N maxim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ális értéke 30000 volt, a hivatalos megoldás azon alapúlt, hogy egy szám számjegyeinek összegét megkaphatjuk, ha 10-es alapon logaritmáljuk és az eredmény egész részéhez egyet hozzá adunk, valamint, hogy egy szorzat logaritmusa egyenlő a tényezők logaritmusának összegével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A másik helyes megoldá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z említett versenyen senki sem használta az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1)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 megoldást, mégis többen is helyesen oldották meg a feladato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z általuk használt megoldás azon alapszik, hogy minden i. lépésben  i!-nak csak az első 5 (esetleg 9) számjegyét tárolják és minden elvégzett szorzás után addig osszák 10-el a kapott eredményt, míg az ismét 5 (9) számjegyű lesz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Amikor az N nagyobb..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aeaea"/>
                </a:solidFill>
                <a:latin typeface="Times New Roman"/>
              </a:rPr>
              <a:t>2000-ben egy romániai versenyen újra megjelent egy olyan feladat, mely N! számjegyeinek számának meghatározására volt levezethető, ezúttal viszont, N maximális értéke 24572457 volt, így az eddig említett megoldások egyike sem működött volna időben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eaeaea"/>
                </a:solidFill>
                <a:latin typeface="Times New Roman"/>
              </a:rPr>
              <a:t>A versenyzők helyes megoldásai az előbb említett két megoldás kissé módosított változatait használták: 100000 többszöröseire megjegyezték a részeredményeket és a kért N-nél kisebb részeredmények közül a legnagyobbtól kezdve kezdték a számításokat, így lefutott a programjuk időben</a:t>
            </a:r>
            <a:r>
              <a:rPr b="1" lang="hu-H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Amikor az N még nagyobb...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 feladat legközelebb az Agora versenyen jelent meg (www.ginfo.ro),  2000-ben, itt N maximális értéke már 2000000000 volt. Az előbbi megoldás nehezen alkalmazható volt, mert igen sok időbe telt a részeredmények meghatározása, néhány versenyző mégis ezt a megoldási módot választot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 legjobb megoldás a Stirling képlet alkalmazása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[1]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ly N</a:t>
            </a:r>
            <a:r>
              <a:rPr b="0" lang="hu-HU" sz="2800" spc="-1" strike="noStrike">
                <a:solidFill>
                  <a:srgbClr val="eaeaea"/>
                </a:solidFill>
                <a:latin typeface="Times New Roman"/>
              </a:rPr>
              <a:t>! értékére ad egy nagyon jó közelítést, melyet a már említett okokból logaritmálni kell </a:t>
            </a:r>
            <a:r>
              <a:rPr b="1" lang="hu-HU" sz="2800" spc="-1" strike="noStrike">
                <a:solidFill>
                  <a:srgbClr val="eaeaea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És az első számjegy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N! első számjegyének meghatározásának feladatával először 1997-ban találkozhattunk, a nagyváradi Emanuil Gojdu liceum által szervezett EIC e-mail-es versenyen (</a:t>
            </a:r>
            <a:r>
              <a:rPr b="0" lang="en-GB" sz="3200" spc="-1" strike="noStrike" u="sng">
                <a:solidFill>
                  <a:srgbClr val="deb54e"/>
                </a:solidFill>
                <a:uFillTx/>
                <a:latin typeface="Times New Roman"/>
                <a:hlinkClick r:id="rId2"/>
              </a:rPr>
              <a:t>http://www.lego.rdsor.ro/concurs/</a:t>
            </a: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A megoldáshoz a </a:t>
            </a:r>
            <a:r>
              <a:rPr b="1" lang="hu-HU" sz="3200" spc="-1" strike="noStrike">
                <a:solidFill>
                  <a:srgbClr val="eaeaea"/>
                </a:solidFill>
                <a:latin typeface="Times New Roman"/>
              </a:rPr>
              <a:t>(2) 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ódszert javasolju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És az utolsó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Times New Roman"/>
              </a:rPr>
              <a:t>4-nél nagyobb értékek esetén a szorzatban megjelenik a 2*5, így a 10 osztója lesz N!-nak, tehát az utolsó számjegy, mindig 0 les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dd39f"/>
                </a:solidFill>
                <a:latin typeface="Times New Roman"/>
              </a:rPr>
              <a:t>Könyvésze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[1] Ginfo 1999 december (9/8)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– Stirling k</a:t>
            </a: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épl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[2] Ginfo</a:t>
            </a:r>
            <a:r>
              <a:rPr b="1" lang="hu-HU" sz="3200" spc="-1" strike="noStrike">
                <a:solidFill>
                  <a:srgbClr val="eaeaea"/>
                </a:solidFill>
                <a:latin typeface="Times New Roman"/>
              </a:rPr>
              <a:t> 2000 január (10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/1)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– megold</a:t>
            </a:r>
            <a:r>
              <a:rPr b="0" lang="hu-HU" sz="2000" spc="-1" strike="noStrike">
                <a:solidFill>
                  <a:srgbClr val="eaeaea"/>
                </a:solidFill>
                <a:latin typeface="Times New Roman"/>
              </a:rPr>
              <a:t>ás, magyarázat, történelmi áttekinté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6:48:53Z</dcterms:created>
  <dc:creator>Overlord</dc:creator>
  <dc:description/>
  <dc:language>en-US</dc:language>
  <cp:lastModifiedBy>Overlord</cp:lastModifiedBy>
  <dcterms:modified xsi:type="dcterms:W3CDTF">2005-01-15T22:47:34Z</dcterms:modified>
  <cp:revision>65</cp:revision>
  <dc:subject/>
  <dc:title>Farkas Gyula Szakkollégium</dc:title>
</cp:coreProperties>
</file>